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8896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68800" y="106668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8896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68800" y="3773160"/>
            <a:ext cx="25516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30040"/>
            <a:ext cx="8190000" cy="246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0280" y="377316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066680"/>
            <a:ext cx="3867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773160"/>
            <a:ext cx="792504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33520" y="838080"/>
            <a:ext cx="8076960" cy="54104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9094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90480" indent="-296640">
              <a:lnSpc>
                <a:spcPct val="120000"/>
              </a:lnSpc>
              <a:buClr>
                <a:srgbClr val="d6009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804960">
              <a:lnSpc>
                <a:spcPct val="12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919080">
              <a:lnSpc>
                <a:spcPct val="120000"/>
              </a:lnSpc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1033560">
              <a:lnSpc>
                <a:spcPct val="120000"/>
              </a:lnSpc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1033560">
              <a:lnSpc>
                <a:spcPct val="120000"/>
              </a:lnSpc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1033560">
              <a:lnSpc>
                <a:spcPct val="120000"/>
              </a:lnSpc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5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系统应用实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10.1  步进电机控制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10.2  红外线感应自动门控制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10.3  通用多点温度控制系统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"/>
          <p:cNvGrpSpPr/>
          <p:nvPr/>
        </p:nvGrpSpPr>
        <p:grpSpPr>
          <a:xfrm>
            <a:off x="380880" y="609480"/>
            <a:ext cx="4879800" cy="4856040"/>
            <a:chOff x="380880" y="609480"/>
            <a:chExt cx="4879800" cy="4856040"/>
          </a:xfrm>
        </p:grpSpPr>
        <p:sp>
          <p:nvSpPr>
            <p:cNvPr id="578" name=""/>
            <p:cNvSpPr/>
            <p:nvPr/>
          </p:nvSpPr>
          <p:spPr>
            <a:xfrm>
              <a:off x="2554560" y="3728160"/>
              <a:ext cx="368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159920" y="1527120"/>
              <a:ext cx="249372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频率阶梯计数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175040" y="1979640"/>
              <a:ext cx="246132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阶梯步长计数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288080" y="3378960"/>
              <a:ext cx="223740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置定时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1143360" y="2431080"/>
              <a:ext cx="2525040" cy="263880"/>
              <a:chOff x="1143360" y="2431080"/>
              <a:chExt cx="2525040" cy="263880"/>
            </a:xfrm>
          </p:grpSpPr>
          <p:sp>
            <p:nvSpPr>
              <p:cNvPr id="583" name=""/>
              <p:cNvSpPr/>
              <p:nvPr/>
            </p:nvSpPr>
            <p:spPr>
              <a:xfrm>
                <a:off x="1537920" y="2470680"/>
                <a:ext cx="18338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转向标志为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143360" y="2431080"/>
                <a:ext cx="2525040" cy="263880"/>
              </a:xfrm>
              <a:prstGeom prst="hexagon">
                <a:avLst>
                  <a:gd name="adj" fmla="val 23922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1366920" y="3830760"/>
              <a:ext cx="207756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PU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66920" y="4778640"/>
              <a:ext cx="207756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PU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7" name=""/>
            <p:cNvGrpSpPr/>
            <p:nvPr/>
          </p:nvGrpSpPr>
          <p:grpSpPr>
            <a:xfrm>
              <a:off x="1607400" y="5230800"/>
              <a:ext cx="1598040" cy="234720"/>
              <a:chOff x="1607400" y="5230800"/>
              <a:chExt cx="1598040" cy="234720"/>
            </a:xfrm>
          </p:grpSpPr>
          <p:sp>
            <p:nvSpPr>
              <p:cNvPr id="588" name=""/>
              <p:cNvSpPr/>
              <p:nvPr/>
            </p:nvSpPr>
            <p:spPr>
              <a:xfrm>
                <a:off x="1607400" y="5230800"/>
                <a:ext cx="1598040" cy="23472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26720" y="5241240"/>
                <a:ext cx="1082160" cy="15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结束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1143360" y="4282920"/>
              <a:ext cx="2525040" cy="263880"/>
              <a:chOff x="1143360" y="4282920"/>
              <a:chExt cx="2525040" cy="263880"/>
            </a:xfrm>
          </p:grpSpPr>
          <p:sp>
            <p:nvSpPr>
              <p:cNvPr id="591" name=""/>
              <p:cNvSpPr/>
              <p:nvPr/>
            </p:nvSpPr>
            <p:spPr>
              <a:xfrm>
                <a:off x="1537920" y="4322520"/>
                <a:ext cx="18338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频率阶梯为</a:t>
                </a: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143360" y="4282920"/>
                <a:ext cx="2525040" cy="263880"/>
              </a:xfrm>
              <a:prstGeom prst="hexagon">
                <a:avLst>
                  <a:gd name="adj" fmla="val 239222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1607400" y="609480"/>
              <a:ext cx="1598040" cy="234720"/>
              <a:chOff x="1607400" y="609480"/>
              <a:chExt cx="1598040" cy="234720"/>
            </a:xfrm>
          </p:grpSpPr>
          <p:sp>
            <p:nvSpPr>
              <p:cNvPr id="594" name=""/>
              <p:cNvSpPr/>
              <p:nvPr/>
            </p:nvSpPr>
            <p:spPr>
              <a:xfrm>
                <a:off x="1607400" y="609480"/>
                <a:ext cx="1598040" cy="234720"/>
              </a:xfrm>
              <a:prstGeom prst="flowChartTerminator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1863000" y="619920"/>
                <a:ext cx="1086480" cy="21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主程序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"/>
            <p:cNvSpPr/>
            <p:nvPr/>
          </p:nvSpPr>
          <p:spPr>
            <a:xfrm>
              <a:off x="1272600" y="2927520"/>
              <a:ext cx="226944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置正转模型地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641040" y="2557800"/>
              <a:ext cx="102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64520" y="255780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426400" y="85032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94720" y="130896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394720" y="175752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2394720" y="220572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394720" y="26967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94720" y="3155760"/>
              <a:ext cx="0" cy="2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426400" y="405216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6400" y="455400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426400" y="5002200"/>
              <a:ext cx="0" cy="23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2394360" y="3219840"/>
              <a:ext cx="230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880" y="4127040"/>
              <a:ext cx="204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0880" y="4128120"/>
              <a:ext cx="0" cy="29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706640" y="3152880"/>
              <a:ext cx="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737160" y="2427120"/>
              <a:ext cx="2556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17320" y="4289760"/>
              <a:ext cx="38376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167480" y="1098360"/>
              <a:ext cx="2493720" cy="219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初值地址指针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079520" y="2765520"/>
              <a:ext cx="118116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置反转模型地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381600" y="4421160"/>
              <a:ext cx="79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554560" y="4642200"/>
              <a:ext cx="38340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58440" y="2759400"/>
              <a:ext cx="255600" cy="14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5638680" y="457200"/>
            <a:ext cx="2869920" cy="5257800"/>
            <a:chOff x="5638680" y="457200"/>
            <a:chExt cx="2869920" cy="5257800"/>
          </a:xfrm>
        </p:grpSpPr>
        <p:sp>
          <p:nvSpPr>
            <p:cNvPr id="620" name=""/>
            <p:cNvSpPr/>
            <p:nvPr/>
          </p:nvSpPr>
          <p:spPr>
            <a:xfrm>
              <a:off x="6321600" y="3883680"/>
              <a:ext cx="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5080" y="3785400"/>
              <a:ext cx="119088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初值地址更新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092720" y="2276280"/>
              <a:ext cx="105084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恢复模型首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8960" y="856080"/>
              <a:ext cx="8406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保护现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7920" y="1279080"/>
              <a:ext cx="11034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输出控制模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07160" y="1669320"/>
              <a:ext cx="10242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模型地址增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67920" y="4695840"/>
              <a:ext cx="11034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赋升频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初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767920" y="5086080"/>
              <a:ext cx="11034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恢复现场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23640" y="2054160"/>
              <a:ext cx="1190880" cy="268200"/>
            </a:xfrm>
            <a:prstGeom prst="hexagon">
              <a:avLst>
                <a:gd name="adj" fmla="val 111007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28760" y="2076480"/>
              <a:ext cx="99828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模型结束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33400" y="3088800"/>
              <a:ext cx="1004760" cy="20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频率阶梯为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17400" y="3048120"/>
              <a:ext cx="1383480" cy="268200"/>
            </a:xfrm>
            <a:prstGeom prst="hexagon">
              <a:avLst>
                <a:gd name="adj" fmla="val 128960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638680" y="2742480"/>
              <a:ext cx="1361160" cy="268200"/>
            </a:xfrm>
            <a:prstGeom prst="hexagon">
              <a:avLst>
                <a:gd name="adj" fmla="val 126879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14000" y="2764800"/>
              <a:ext cx="105660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阶梯步长为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19440" y="699480"/>
              <a:ext cx="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39240" y="1091160"/>
              <a:ext cx="0" cy="210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319440" y="1512720"/>
              <a:ext cx="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319440" y="189288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615800" y="2881440"/>
              <a:ext cx="0" cy="17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319440" y="2326320"/>
              <a:ext cx="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319440" y="4921560"/>
              <a:ext cx="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19440" y="5313960"/>
              <a:ext cx="0" cy="15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324120" y="260712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899760" y="4370760"/>
              <a:ext cx="66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21600" y="4999680"/>
              <a:ext cx="210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65400" y="4370760"/>
              <a:ext cx="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075080" y="3438360"/>
              <a:ext cx="11736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阶梯步长赋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723640" y="457200"/>
              <a:ext cx="1190880" cy="2383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4000" y="465840"/>
              <a:ext cx="10116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服务程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550640" y="2505960"/>
              <a:ext cx="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928120" y="4281480"/>
              <a:ext cx="82728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升频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5750280" y="4240800"/>
              <a:ext cx="1138680" cy="268200"/>
            </a:xfrm>
            <a:prstGeom prst="hexagon">
              <a:avLst>
                <a:gd name="adj" fmla="val 106141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953680" y="5476680"/>
              <a:ext cx="753120" cy="23832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199200" y="5498280"/>
              <a:ext cx="36792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返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004880" y="4700160"/>
              <a:ext cx="1103400" cy="22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赋降频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初值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21600" y="3024360"/>
              <a:ext cx="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7578000" y="4930560"/>
              <a:ext cx="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004880" y="2874600"/>
              <a:ext cx="61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600680" y="4023720"/>
              <a:ext cx="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321600" y="4088880"/>
              <a:ext cx="127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600680" y="333000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00680" y="3661560"/>
              <a:ext cx="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17400" y="2197080"/>
              <a:ext cx="63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040160" y="2668680"/>
              <a:ext cx="2098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40160" y="2031840"/>
              <a:ext cx="209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301240" y="3178080"/>
              <a:ext cx="12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424000" y="3178080"/>
              <a:ext cx="0" cy="182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427080" y="4511880"/>
              <a:ext cx="1400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41520" y="2481480"/>
              <a:ext cx="21024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215120" y="4393800"/>
              <a:ext cx="14004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64680" y="2194560"/>
              <a:ext cx="0" cy="10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403040" y="3309840"/>
              <a:ext cx="1400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076440" y="3493800"/>
              <a:ext cx="209880" cy="1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339240" y="4506480"/>
              <a:ext cx="0" cy="19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8298720" y="2964600"/>
              <a:ext cx="20988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2057400" y="59436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频控制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编写变频控制程序作如下说明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利用定时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T0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延时，其初值存放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EPROM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的同一页中。降频是升频的逆过程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步进电机控制模型数据及存放地址（如表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2~10-5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在升、降频过程中，考虑步进电机惯性，要求每改变一次频率，需持续运行一定步数，称频率阶梯步长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685800" y="457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4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标志位定义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800600" y="4572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10-5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初值分配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609480" y="1219320"/>
            <a:ext cx="7924680" cy="4876560"/>
            <a:chOff x="609480" y="1219320"/>
            <a:chExt cx="7924680" cy="4876560"/>
          </a:xfrm>
        </p:grpSpPr>
        <p:grpSp>
          <p:nvGrpSpPr>
            <p:cNvPr id="681" name=""/>
            <p:cNvGrpSpPr/>
            <p:nvPr/>
          </p:nvGrpSpPr>
          <p:grpSpPr>
            <a:xfrm>
              <a:off x="615600" y="1224000"/>
              <a:ext cx="7911360" cy="4867200"/>
              <a:chOff x="615600" y="1224000"/>
              <a:chExt cx="7911360" cy="4867200"/>
            </a:xfrm>
          </p:grpSpPr>
          <p:grpSp>
            <p:nvGrpSpPr>
              <p:cNvPr id="682" name=""/>
              <p:cNvGrpSpPr/>
              <p:nvPr/>
            </p:nvGrpSpPr>
            <p:grpSpPr>
              <a:xfrm>
                <a:off x="615600" y="1224000"/>
                <a:ext cx="1011240" cy="695160"/>
                <a:chOff x="615600" y="1224000"/>
                <a:chExt cx="1011240" cy="69516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705600" y="1224000"/>
                  <a:ext cx="83160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位地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615600" y="1224000"/>
                  <a:ext cx="101124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1627200" y="1224000"/>
                <a:ext cx="2931120" cy="695160"/>
                <a:chOff x="1627200" y="1224000"/>
                <a:chExt cx="2931120" cy="69516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1717200" y="1224000"/>
                  <a:ext cx="27511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标志内容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1627200" y="1224000"/>
                  <a:ext cx="293112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8" name=""/>
              <p:cNvGrpSpPr/>
              <p:nvPr/>
            </p:nvGrpSpPr>
            <p:grpSpPr>
              <a:xfrm>
                <a:off x="4559040" y="1224000"/>
                <a:ext cx="588960" cy="695160"/>
                <a:chOff x="4559040" y="1224000"/>
                <a:chExt cx="588960" cy="69516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4648320" y="1224000"/>
                  <a:ext cx="409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4559040" y="1224000"/>
                  <a:ext cx="58896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5148360" y="1224000"/>
                <a:ext cx="1057680" cy="695160"/>
                <a:chOff x="5148360" y="1224000"/>
                <a:chExt cx="1057680" cy="69516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5238360" y="1224000"/>
                  <a:ext cx="877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字节地址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5148360" y="1224000"/>
                  <a:ext cx="105768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4" name=""/>
              <p:cNvGrpSpPr/>
              <p:nvPr/>
            </p:nvGrpSpPr>
            <p:grpSpPr>
              <a:xfrm>
                <a:off x="6206760" y="1224000"/>
                <a:ext cx="2320200" cy="695160"/>
                <a:chOff x="6206760" y="1224000"/>
                <a:chExt cx="2320200" cy="695160"/>
              </a:xfrm>
            </p:grpSpPr>
            <p:sp>
              <p:nvSpPr>
                <p:cNvPr id="695" name=""/>
                <p:cNvSpPr/>
                <p:nvPr/>
              </p:nvSpPr>
              <p:spPr>
                <a:xfrm>
                  <a:off x="6296040" y="1224000"/>
                  <a:ext cx="21409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黑体"/>
                    </a:rPr>
                    <a:t>存储内容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6206760" y="1224000"/>
                  <a:ext cx="232020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600" y="1919160"/>
                <a:ext cx="1011240" cy="695520"/>
                <a:chOff x="615600" y="1919160"/>
                <a:chExt cx="1011240" cy="6955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705600" y="1919160"/>
                  <a:ext cx="83160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15600" y="1919160"/>
                  <a:ext cx="101124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0" name=""/>
              <p:cNvGrpSpPr/>
              <p:nvPr/>
            </p:nvGrpSpPr>
            <p:grpSpPr>
              <a:xfrm>
                <a:off x="1627200" y="1919160"/>
                <a:ext cx="2931120" cy="695520"/>
                <a:chOff x="1627200" y="1919160"/>
                <a:chExt cx="2931120" cy="6955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1717200" y="1919160"/>
                  <a:ext cx="27511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运行方式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恒速，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变速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1627200" y="1919160"/>
                  <a:ext cx="293112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4559040" y="1919160"/>
                <a:ext cx="588960" cy="695520"/>
                <a:chOff x="4559040" y="1919160"/>
                <a:chExt cx="588960" cy="69552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4648320" y="1919160"/>
                  <a:ext cx="409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4559040" y="1919160"/>
                  <a:ext cx="58896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5148360" y="1919160"/>
                <a:ext cx="1057680" cy="695520"/>
                <a:chOff x="5148360" y="1919160"/>
                <a:chExt cx="1057680" cy="6955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5238360" y="1919160"/>
                  <a:ext cx="877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5148360" y="1919160"/>
                  <a:ext cx="105768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9" name=""/>
              <p:cNvGrpSpPr/>
              <p:nvPr/>
            </p:nvGrpSpPr>
            <p:grpSpPr>
              <a:xfrm>
                <a:off x="6206760" y="1919160"/>
                <a:ext cx="2320200" cy="695520"/>
                <a:chOff x="6206760" y="1919160"/>
                <a:chExt cx="2320200" cy="69552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6296040" y="1919160"/>
                  <a:ext cx="21409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频率阶梯步长计数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2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的值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6206760" y="1919160"/>
                  <a:ext cx="232020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2" name=""/>
              <p:cNvGrpSpPr/>
              <p:nvPr/>
            </p:nvGrpSpPr>
            <p:grpSpPr>
              <a:xfrm>
                <a:off x="615600" y="2614680"/>
                <a:ext cx="1011240" cy="695160"/>
                <a:chOff x="615600" y="2614680"/>
                <a:chExt cx="1011240" cy="695160"/>
              </a:xfrm>
            </p:grpSpPr>
            <p:sp>
              <p:nvSpPr>
                <p:cNvPr id="713" name=""/>
                <p:cNvSpPr/>
                <p:nvPr/>
              </p:nvSpPr>
              <p:spPr>
                <a:xfrm>
                  <a:off x="705600" y="2614680"/>
                  <a:ext cx="83160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615600" y="2614680"/>
                  <a:ext cx="101124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5" name=""/>
              <p:cNvGrpSpPr/>
              <p:nvPr/>
            </p:nvGrpSpPr>
            <p:grpSpPr>
              <a:xfrm>
                <a:off x="1627200" y="2614680"/>
                <a:ext cx="2931120" cy="695160"/>
                <a:chOff x="1627200" y="2614680"/>
                <a:chExt cx="2931120" cy="695160"/>
              </a:xfrm>
            </p:grpSpPr>
            <p:sp>
              <p:nvSpPr>
                <p:cNvPr id="716" name=""/>
                <p:cNvSpPr/>
                <p:nvPr/>
              </p:nvSpPr>
              <p:spPr>
                <a:xfrm>
                  <a:off x="1717200" y="2614680"/>
                  <a:ext cx="27511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变速方式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降速，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升速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1627200" y="2614680"/>
                  <a:ext cx="293112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559040" y="2614680"/>
                <a:ext cx="588960" cy="695160"/>
                <a:chOff x="4559040" y="2614680"/>
                <a:chExt cx="588960" cy="695160"/>
              </a:xfrm>
            </p:grpSpPr>
            <p:sp>
              <p:nvSpPr>
                <p:cNvPr id="719" name=""/>
                <p:cNvSpPr/>
                <p:nvPr/>
              </p:nvSpPr>
              <p:spPr>
                <a:xfrm>
                  <a:off x="4648320" y="2614680"/>
                  <a:ext cx="409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559040" y="2614680"/>
                  <a:ext cx="58896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148360" y="2614680"/>
                <a:ext cx="1057680" cy="695160"/>
                <a:chOff x="5148360" y="2614680"/>
                <a:chExt cx="1057680" cy="69516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238360" y="2614680"/>
                  <a:ext cx="877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148360" y="2614680"/>
                  <a:ext cx="105768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4" name=""/>
              <p:cNvGrpSpPr/>
              <p:nvPr/>
            </p:nvGrpSpPr>
            <p:grpSpPr>
              <a:xfrm>
                <a:off x="6206760" y="2614680"/>
                <a:ext cx="2320200" cy="695160"/>
                <a:chOff x="6206760" y="2614680"/>
                <a:chExt cx="2320200" cy="695160"/>
              </a:xfrm>
            </p:grpSpPr>
            <p:sp>
              <p:nvSpPr>
                <p:cNvPr id="725" name=""/>
                <p:cNvSpPr/>
                <p:nvPr/>
              </p:nvSpPr>
              <p:spPr>
                <a:xfrm>
                  <a:off x="6296040" y="2614680"/>
                  <a:ext cx="21409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频率阶梯计数器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3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的值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206760" y="2614680"/>
                  <a:ext cx="232020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7" name=""/>
              <p:cNvGrpSpPr/>
              <p:nvPr/>
            </p:nvGrpSpPr>
            <p:grpSpPr>
              <a:xfrm>
                <a:off x="615600" y="3309840"/>
                <a:ext cx="1011240" cy="695520"/>
                <a:chOff x="615600" y="3309840"/>
                <a:chExt cx="1011240" cy="695520"/>
              </a:xfrm>
            </p:grpSpPr>
            <p:sp>
              <p:nvSpPr>
                <p:cNvPr id="728" name=""/>
                <p:cNvSpPr/>
                <p:nvPr/>
              </p:nvSpPr>
              <p:spPr>
                <a:xfrm>
                  <a:off x="705600" y="3309840"/>
                  <a:ext cx="83160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2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615600" y="3309840"/>
                  <a:ext cx="101124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0" name=""/>
              <p:cNvGrpSpPr/>
              <p:nvPr/>
            </p:nvGrpSpPr>
            <p:grpSpPr>
              <a:xfrm>
                <a:off x="1627200" y="3309840"/>
                <a:ext cx="2931120" cy="695520"/>
                <a:chOff x="1627200" y="3309840"/>
                <a:chExt cx="2931120" cy="695520"/>
              </a:xfrm>
            </p:grpSpPr>
            <p:sp>
              <p:nvSpPr>
                <p:cNvPr id="731" name=""/>
                <p:cNvSpPr/>
                <p:nvPr/>
              </p:nvSpPr>
              <p:spPr>
                <a:xfrm>
                  <a:off x="1717200" y="3309840"/>
                  <a:ext cx="27511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恒速转向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正转，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反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627200" y="3309840"/>
                  <a:ext cx="293112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3" name=""/>
              <p:cNvGrpSpPr/>
              <p:nvPr/>
            </p:nvGrpSpPr>
            <p:grpSpPr>
              <a:xfrm>
                <a:off x="4559040" y="3309840"/>
                <a:ext cx="588960" cy="695520"/>
                <a:chOff x="4559040" y="3309840"/>
                <a:chExt cx="588960" cy="695520"/>
              </a:xfrm>
            </p:grpSpPr>
            <p:sp>
              <p:nvSpPr>
                <p:cNvPr id="734" name=""/>
                <p:cNvSpPr/>
                <p:nvPr/>
              </p:nvSpPr>
              <p:spPr>
                <a:xfrm>
                  <a:off x="4648320" y="3309840"/>
                  <a:ext cx="409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559040" y="3309840"/>
                  <a:ext cx="58896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6" name=""/>
              <p:cNvGrpSpPr/>
              <p:nvPr/>
            </p:nvGrpSpPr>
            <p:grpSpPr>
              <a:xfrm>
                <a:off x="5148360" y="3309840"/>
                <a:ext cx="1057680" cy="695520"/>
                <a:chOff x="5148360" y="3309840"/>
                <a:chExt cx="1057680" cy="695520"/>
              </a:xfrm>
            </p:grpSpPr>
            <p:sp>
              <p:nvSpPr>
                <p:cNvPr id="737" name=""/>
                <p:cNvSpPr/>
                <p:nvPr/>
              </p:nvSpPr>
              <p:spPr>
                <a:xfrm>
                  <a:off x="5238360" y="3309840"/>
                  <a:ext cx="877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5148360" y="3309840"/>
                  <a:ext cx="105768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6206760" y="3309840"/>
                <a:ext cx="2320200" cy="695520"/>
                <a:chOff x="6206760" y="3309840"/>
                <a:chExt cx="2320200" cy="6955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6296040" y="3309840"/>
                  <a:ext cx="21409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恒速段步长低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6206760" y="3309840"/>
                  <a:ext cx="232020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2" name=""/>
              <p:cNvGrpSpPr/>
              <p:nvPr/>
            </p:nvGrpSpPr>
            <p:grpSpPr>
              <a:xfrm>
                <a:off x="615600" y="4005360"/>
                <a:ext cx="1011240" cy="695160"/>
                <a:chOff x="615600" y="4005360"/>
                <a:chExt cx="1011240" cy="69516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705600" y="4005360"/>
                  <a:ext cx="83160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3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615600" y="4005360"/>
                  <a:ext cx="101124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5" name=""/>
              <p:cNvGrpSpPr/>
              <p:nvPr/>
            </p:nvGrpSpPr>
            <p:grpSpPr>
              <a:xfrm>
                <a:off x="1627200" y="4005360"/>
                <a:ext cx="2931120" cy="695160"/>
                <a:chOff x="1627200" y="4005360"/>
                <a:chExt cx="2931120" cy="69516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1717200" y="4005360"/>
                  <a:ext cx="27511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升速转向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正转，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反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627200" y="4005360"/>
                  <a:ext cx="293112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4559040" y="4005360"/>
                <a:ext cx="588960" cy="695160"/>
                <a:chOff x="4559040" y="4005360"/>
                <a:chExt cx="588960" cy="69516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4648320" y="4005360"/>
                  <a:ext cx="409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559040" y="4005360"/>
                  <a:ext cx="58896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1" name=""/>
              <p:cNvGrpSpPr/>
              <p:nvPr/>
            </p:nvGrpSpPr>
            <p:grpSpPr>
              <a:xfrm>
                <a:off x="5148360" y="4005360"/>
                <a:ext cx="1057680" cy="695160"/>
                <a:chOff x="5148360" y="4005360"/>
                <a:chExt cx="1057680" cy="69516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5238360" y="4005360"/>
                  <a:ext cx="877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5148360" y="4005360"/>
                  <a:ext cx="105768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4" name=""/>
              <p:cNvGrpSpPr/>
              <p:nvPr/>
            </p:nvGrpSpPr>
            <p:grpSpPr>
              <a:xfrm>
                <a:off x="6206760" y="4005360"/>
                <a:ext cx="2320200" cy="695160"/>
                <a:chOff x="6206760" y="4005360"/>
                <a:chExt cx="2320200" cy="695160"/>
              </a:xfrm>
            </p:grpSpPr>
            <p:sp>
              <p:nvSpPr>
                <p:cNvPr id="755" name=""/>
                <p:cNvSpPr/>
                <p:nvPr/>
              </p:nvSpPr>
              <p:spPr>
                <a:xfrm>
                  <a:off x="6296040" y="4005360"/>
                  <a:ext cx="21409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恒速段步长高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206760" y="4005360"/>
                  <a:ext cx="232020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7" name=""/>
              <p:cNvGrpSpPr/>
              <p:nvPr/>
            </p:nvGrpSpPr>
            <p:grpSpPr>
              <a:xfrm>
                <a:off x="615600" y="4700520"/>
                <a:ext cx="1011240" cy="695520"/>
                <a:chOff x="615600" y="4700520"/>
                <a:chExt cx="1011240" cy="695520"/>
              </a:xfrm>
            </p:grpSpPr>
            <p:sp>
              <p:nvSpPr>
                <p:cNvPr id="758" name=""/>
                <p:cNvSpPr/>
                <p:nvPr/>
              </p:nvSpPr>
              <p:spPr>
                <a:xfrm>
                  <a:off x="705600" y="4700520"/>
                  <a:ext cx="83160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4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615600" y="4700520"/>
                  <a:ext cx="101124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1627200" y="4700520"/>
                <a:ext cx="2931120" cy="695520"/>
                <a:chOff x="1627200" y="4700520"/>
                <a:chExt cx="2931120" cy="6955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1717200" y="4700520"/>
                  <a:ext cx="27511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降速转向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正转，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反转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627200" y="4700520"/>
                  <a:ext cx="293112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3" name=""/>
              <p:cNvGrpSpPr/>
              <p:nvPr/>
            </p:nvGrpSpPr>
            <p:grpSpPr>
              <a:xfrm>
                <a:off x="4559040" y="4700520"/>
                <a:ext cx="588960" cy="695520"/>
                <a:chOff x="4559040" y="4700520"/>
                <a:chExt cx="588960" cy="695520"/>
              </a:xfrm>
            </p:grpSpPr>
            <p:sp>
              <p:nvSpPr>
                <p:cNvPr id="764" name=""/>
                <p:cNvSpPr/>
                <p:nvPr/>
              </p:nvSpPr>
              <p:spPr>
                <a:xfrm>
                  <a:off x="4648320" y="4700520"/>
                  <a:ext cx="409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4559040" y="4700520"/>
                  <a:ext cx="58896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6" name=""/>
              <p:cNvGrpSpPr/>
              <p:nvPr/>
            </p:nvGrpSpPr>
            <p:grpSpPr>
              <a:xfrm>
                <a:off x="5148360" y="4700520"/>
                <a:ext cx="1057680" cy="695520"/>
                <a:chOff x="5148360" y="4700520"/>
                <a:chExt cx="1057680" cy="695520"/>
              </a:xfrm>
            </p:grpSpPr>
            <p:sp>
              <p:nvSpPr>
                <p:cNvPr id="767" name=""/>
                <p:cNvSpPr/>
                <p:nvPr/>
              </p:nvSpPr>
              <p:spPr>
                <a:xfrm>
                  <a:off x="5238360" y="4700520"/>
                  <a:ext cx="87768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8" name=""/>
                <p:cNvSpPr/>
                <p:nvPr/>
              </p:nvSpPr>
              <p:spPr>
                <a:xfrm>
                  <a:off x="5148360" y="4700520"/>
                  <a:ext cx="105768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9" name=""/>
              <p:cNvGrpSpPr/>
              <p:nvPr/>
            </p:nvGrpSpPr>
            <p:grpSpPr>
              <a:xfrm>
                <a:off x="6206760" y="4700520"/>
                <a:ext cx="2320200" cy="695520"/>
                <a:chOff x="6206760" y="4700520"/>
                <a:chExt cx="2320200" cy="695520"/>
              </a:xfrm>
            </p:grpSpPr>
            <p:sp>
              <p:nvSpPr>
                <p:cNvPr id="770" name=""/>
                <p:cNvSpPr/>
                <p:nvPr/>
              </p:nvSpPr>
              <p:spPr>
                <a:xfrm>
                  <a:off x="6296040" y="4700520"/>
                  <a:ext cx="2140920" cy="69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恒速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初值低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6206760" y="4700520"/>
                  <a:ext cx="2320200" cy="695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2" name=""/>
              <p:cNvGrpSpPr/>
              <p:nvPr/>
            </p:nvGrpSpPr>
            <p:grpSpPr>
              <a:xfrm>
                <a:off x="615600" y="5396040"/>
                <a:ext cx="1011240" cy="695160"/>
                <a:chOff x="615600" y="5396040"/>
                <a:chExt cx="1011240" cy="69516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05600" y="5396040"/>
                  <a:ext cx="83160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75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615600" y="5396040"/>
                  <a:ext cx="101124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5" name=""/>
              <p:cNvGrpSpPr/>
              <p:nvPr/>
            </p:nvGrpSpPr>
            <p:grpSpPr>
              <a:xfrm>
                <a:off x="1627200" y="5396040"/>
                <a:ext cx="2931120" cy="695160"/>
                <a:chOff x="1627200" y="5396040"/>
                <a:chExt cx="2931120" cy="69516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1717200" y="5396040"/>
                  <a:ext cx="27511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程序结束标志：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2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代表程序结束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627200" y="5396040"/>
                  <a:ext cx="293112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8" name=""/>
              <p:cNvGrpSpPr/>
              <p:nvPr/>
            </p:nvGrpSpPr>
            <p:grpSpPr>
              <a:xfrm>
                <a:off x="4559040" y="5396040"/>
                <a:ext cx="588960" cy="695160"/>
                <a:chOff x="4559040" y="5396040"/>
                <a:chExt cx="588960" cy="695160"/>
              </a:xfrm>
            </p:grpSpPr>
            <p:sp>
              <p:nvSpPr>
                <p:cNvPr id="779" name=""/>
                <p:cNvSpPr/>
                <p:nvPr/>
              </p:nvSpPr>
              <p:spPr>
                <a:xfrm>
                  <a:off x="4648320" y="5396040"/>
                  <a:ext cx="409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 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4559040" y="5396040"/>
                  <a:ext cx="58896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5148360" y="5396040"/>
                <a:ext cx="1057680" cy="695160"/>
                <a:chOff x="5148360" y="5396040"/>
                <a:chExt cx="1057680" cy="69516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5238360" y="5396040"/>
                  <a:ext cx="87768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F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5148360" y="5396040"/>
                  <a:ext cx="105768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4" name=""/>
              <p:cNvGrpSpPr/>
              <p:nvPr/>
            </p:nvGrpSpPr>
            <p:grpSpPr>
              <a:xfrm>
                <a:off x="6206760" y="5396040"/>
                <a:ext cx="2320200" cy="695160"/>
                <a:chOff x="6206760" y="5396040"/>
                <a:chExt cx="2320200" cy="695160"/>
              </a:xfrm>
            </p:grpSpPr>
            <p:sp>
              <p:nvSpPr>
                <p:cNvPr id="785" name=""/>
                <p:cNvSpPr/>
                <p:nvPr/>
              </p:nvSpPr>
              <p:spPr>
                <a:xfrm>
                  <a:off x="6296040" y="5396040"/>
                  <a:ext cx="2140920" cy="69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恒速段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T0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初值高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8</a:t>
                  </a:r>
                  <a:r>
                    <a:rPr b="0" lang="zh-CN" sz="16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位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6206760" y="5396040"/>
                  <a:ext cx="2320200" cy="695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87" name=""/>
            <p:cNvSpPr/>
            <p:nvPr/>
          </p:nvSpPr>
          <p:spPr>
            <a:xfrm>
              <a:off x="609480" y="1219320"/>
              <a:ext cx="7924680" cy="48765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8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2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红外线感应自动门控制系统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10.2.1  系统硬件电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10.2.2  红外线传感器集成芯片介绍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10.2.3  系统软件结构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1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2.1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系统硬件电路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系统控制电路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5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。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系列单片机与完全兼容的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T89C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作主控芯片，经扩展和接口电路构成控制系统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红外线传感器能以非接触形式检测人体中辐射出的红外线能量变化，并将此变化转变为电压信号输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系统有自动和手动两种功能。电机选用单相交流电机，由三个控制信号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0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P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Arial Narrow"/>
                <a:ea typeface="宋体"/>
              </a:rPr>
              <a:t>3.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来控制其正、反转和速度变换。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4" name=""/>
          <p:cNvGrpSpPr/>
          <p:nvPr/>
        </p:nvGrpSpPr>
        <p:grpSpPr>
          <a:xfrm>
            <a:off x="0" y="304920"/>
            <a:ext cx="9144000" cy="5333400"/>
            <a:chOff x="0" y="304920"/>
            <a:chExt cx="9144000" cy="5333400"/>
          </a:xfrm>
        </p:grpSpPr>
        <p:sp>
          <p:nvSpPr>
            <p:cNvPr id="795" name=""/>
            <p:cNvSpPr/>
            <p:nvPr/>
          </p:nvSpPr>
          <p:spPr>
            <a:xfrm>
              <a:off x="2782800" y="1287000"/>
              <a:ext cx="1317960" cy="252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306000" tIns="46800" bIns="46800" anchor="t" vert="eaVer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ISS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736640" y="1440720"/>
              <a:ext cx="104616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945800" y="593640"/>
              <a:ext cx="480960" cy="11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90120" y="939960"/>
              <a:ext cx="2926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590120" y="1055520"/>
              <a:ext cx="2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736640" y="107496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657160" y="593640"/>
              <a:ext cx="480960" cy="11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3520" y="651240"/>
              <a:ext cx="1841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1736640" y="669960"/>
              <a:ext cx="0" cy="25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48000" y="65124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138480" y="651240"/>
              <a:ext cx="18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326760" y="477720"/>
              <a:ext cx="0" cy="34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15400" y="34308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904040" y="3625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820160" y="2307240"/>
              <a:ext cx="543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401840" y="2942640"/>
              <a:ext cx="60660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74000" y="199944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69240" y="2442240"/>
              <a:ext cx="6066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66680" y="1421640"/>
              <a:ext cx="5648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527120" y="2018520"/>
              <a:ext cx="66924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611000" y="340488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401840" y="263484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962280" y="3404880"/>
              <a:ext cx="56484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7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03320" y="4599000"/>
              <a:ext cx="962280" cy="307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压检测模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03320" y="4945320"/>
              <a:ext cx="962280" cy="3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温度检测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607720" y="4926240"/>
              <a:ext cx="100404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.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IN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783920" y="2808000"/>
              <a:ext cx="1297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手动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自动切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93080" y="2326680"/>
              <a:ext cx="11509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手动关按钮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963400" y="484920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984280" y="4309920"/>
              <a:ext cx="75312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52760" y="670320"/>
              <a:ext cx="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029680" y="1671840"/>
              <a:ext cx="480960" cy="11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10640" y="172980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1757160" y="172980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757520" y="1594800"/>
              <a:ext cx="0" cy="28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1380960" y="201852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380960" y="651240"/>
              <a:ext cx="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568880" y="2249640"/>
              <a:ext cx="481320" cy="11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2050560" y="2307240"/>
              <a:ext cx="73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815760" y="2249640"/>
              <a:ext cx="481320" cy="11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7960" y="23072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422720" y="2307240"/>
              <a:ext cx="0" cy="30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22720" y="2615400"/>
              <a:ext cx="13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38840" y="242280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38840" y="249984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V="1">
              <a:off x="2364480" y="230724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364480" y="251928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648360" y="230724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43600" y="3174120"/>
              <a:ext cx="481320" cy="11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1924560" y="3231720"/>
              <a:ext cx="83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200" y="2519280"/>
              <a:ext cx="2926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02200" y="2653920"/>
              <a:ext cx="2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48360" y="230724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48360" y="2653920"/>
              <a:ext cx="0" cy="9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9240" y="3231720"/>
              <a:ext cx="77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48360" y="3636000"/>
              <a:ext cx="21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673640" y="28656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590120" y="2865600"/>
              <a:ext cx="0" cy="1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48360" y="2942640"/>
              <a:ext cx="94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73640" y="2942640"/>
              <a:ext cx="50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2175840" y="2942640"/>
              <a:ext cx="0" cy="50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25280" y="4175280"/>
              <a:ext cx="564840" cy="51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90120" y="3944160"/>
              <a:ext cx="125280" cy="94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15760" y="4425480"/>
              <a:ext cx="161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15760" y="4098240"/>
              <a:ext cx="920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15760" y="4753080"/>
              <a:ext cx="12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2050560" y="4637160"/>
              <a:ext cx="0" cy="25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13560" y="1479240"/>
              <a:ext cx="104400" cy="3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087920" y="3867120"/>
              <a:ext cx="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1338840" y="42138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338840" y="4290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715760" y="4002120"/>
              <a:ext cx="62280" cy="19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861920" y="3982680"/>
              <a:ext cx="0" cy="21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1464480" y="409788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464480" y="429084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882800" y="4098240"/>
              <a:ext cx="18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071440" y="3982680"/>
              <a:ext cx="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338840" y="45410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338840" y="46180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1464480" y="442512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64480" y="4618080"/>
              <a:ext cx="0" cy="13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125280" y="4329360"/>
              <a:ext cx="143280" cy="231120"/>
            </a:xfrm>
            <a:custGeom>
              <a:avLst/>
              <a:gdLst/>
              <a:ahLst/>
              <a:rect l="l" t="t" r="r" b="b"/>
              <a:pathLst>
                <a:path w="137" h="240">
                  <a:moveTo>
                    <a:pt x="0" y="0"/>
                  </a:moveTo>
                  <a:cubicBezTo>
                    <a:pt x="51" y="15"/>
                    <a:pt x="103" y="30"/>
                    <a:pt x="120" y="60"/>
                  </a:cubicBezTo>
                  <a:cubicBezTo>
                    <a:pt x="137" y="90"/>
                    <a:pt x="120" y="150"/>
                    <a:pt x="100" y="180"/>
                  </a:cubicBezTo>
                  <a:cubicBezTo>
                    <a:pt x="80" y="210"/>
                    <a:pt x="40" y="225"/>
                    <a:pt x="0" y="2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694880" y="3404880"/>
              <a:ext cx="334440" cy="7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401840" y="3347280"/>
              <a:ext cx="62640" cy="19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338840" y="33472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62280" y="34434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983160" y="3327840"/>
              <a:ext cx="0" cy="21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464480" y="3443400"/>
              <a:ext cx="20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050560" y="3443400"/>
              <a:ext cx="1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2154960" y="3212280"/>
              <a:ext cx="41400" cy="38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2427120" y="2904120"/>
              <a:ext cx="0" cy="152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427120" y="2904480"/>
              <a:ext cx="33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6200" y="651240"/>
              <a:ext cx="0" cy="82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76200" y="1845000"/>
              <a:ext cx="0" cy="20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76200" y="3867120"/>
              <a:ext cx="71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422720" y="4386960"/>
              <a:ext cx="62640" cy="5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101120" y="1421640"/>
              <a:ext cx="3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73280" y="728280"/>
              <a:ext cx="125280" cy="42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101120" y="1671840"/>
              <a:ext cx="12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5167800" y="1498680"/>
              <a:ext cx="292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122000" y="201852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394160" y="1980000"/>
              <a:ext cx="355320" cy="9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101120" y="2307240"/>
              <a:ext cx="89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875120" y="1845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875120" y="1922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5000760" y="1922040"/>
              <a:ext cx="0" cy="38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749840" y="20376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5000760" y="16714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101120" y="2576880"/>
              <a:ext cx="12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101120" y="2885040"/>
              <a:ext cx="3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456800" y="2846520"/>
              <a:ext cx="376560" cy="9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833360" y="2885040"/>
              <a:ext cx="48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189040" y="21726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89040" y="22496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5314680" y="2249280"/>
              <a:ext cx="0" cy="63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5314680" y="1498680"/>
              <a:ext cx="0" cy="65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101120" y="3231720"/>
              <a:ext cx="4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101120" y="3655080"/>
              <a:ext cx="37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4498560" y="3520080"/>
              <a:ext cx="0" cy="269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733000" y="1074960"/>
              <a:ext cx="1025280" cy="425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41040" y="8629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53120" y="4021200"/>
              <a:ext cx="5230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53120" y="436788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3120" y="469512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46160" y="4984200"/>
              <a:ext cx="12970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红外传感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0" y="612720"/>
              <a:ext cx="83520" cy="7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2280" y="3049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85000" y="4777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5320" y="147924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.3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485360" y="442548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85360" y="413676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443600" y="375156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7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4435920" y="1151640"/>
              <a:ext cx="0" cy="26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4435920" y="59364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394160" y="535680"/>
              <a:ext cx="83520" cy="7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373280" y="3625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352040" y="2596320"/>
              <a:ext cx="6696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3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4268520" y="1729800"/>
              <a:ext cx="6692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3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582080" y="1614240"/>
              <a:ext cx="543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35560" y="2057040"/>
              <a:ext cx="54396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678040" y="1287000"/>
              <a:ext cx="5648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678040" y="1883880"/>
              <a:ext cx="648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678040" y="2134080"/>
              <a:ext cx="857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678040" y="2442240"/>
              <a:ext cx="64836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657160" y="2750040"/>
              <a:ext cx="6692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657160" y="3077640"/>
              <a:ext cx="7318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78040" y="3462840"/>
              <a:ext cx="7740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394160" y="766800"/>
              <a:ext cx="690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2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698920" y="1575360"/>
              <a:ext cx="5648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40680" y="273096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766320" y="3481920"/>
              <a:ext cx="5022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703320" y="3077640"/>
              <a:ext cx="5648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640680" y="244224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619800" y="215316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40680" y="184500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40680" y="1498680"/>
              <a:ext cx="62748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85000" y="1267560"/>
              <a:ext cx="941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88392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07256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23960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40736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7440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742160" y="612720"/>
              <a:ext cx="104400" cy="50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58640" y="140220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758640" y="163332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972200" y="130572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8139600" y="14216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993080" y="153684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139600" y="1652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58640" y="188388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58640" y="211464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V="1">
              <a:off x="7972200" y="176760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139600" y="19029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7972200" y="199908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139600" y="21340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58640" y="236520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758640" y="2596320"/>
              <a:ext cx="12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7993080" y="226836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139600" y="23842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7993080" y="2499480"/>
              <a:ext cx="10440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139600" y="2615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6925680" y="1113480"/>
              <a:ext cx="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135200" y="1113480"/>
              <a:ext cx="0" cy="51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302600" y="1113480"/>
              <a:ext cx="0" cy="77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449120" y="1113480"/>
              <a:ext cx="0" cy="9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616520" y="1113480"/>
              <a:ext cx="0" cy="125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783920" y="1113480"/>
              <a:ext cx="0" cy="148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692568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711432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28172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744912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761652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783920" y="516600"/>
              <a:ext cx="0" cy="7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>
              <a:off x="6569640" y="516600"/>
              <a:ext cx="121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528600" y="477720"/>
              <a:ext cx="62280" cy="7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26040" y="36252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5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8390520" y="1402200"/>
              <a:ext cx="0" cy="286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8327880" y="4271760"/>
              <a:ext cx="14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988680" y="2962080"/>
              <a:ext cx="83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758640" y="502236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758640" y="3443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758640" y="365508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58640" y="388656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58640" y="41173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58640" y="4733640"/>
              <a:ext cx="27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758640" y="44834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993080" y="1383120"/>
              <a:ext cx="108792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行程开关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7993080" y="1633320"/>
              <a:ext cx="1108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行程开关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993080" y="2114640"/>
              <a:ext cx="11088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手动开按钮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030440" y="4309920"/>
              <a:ext cx="209160" cy="84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光电隔离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490880" y="4309920"/>
              <a:ext cx="1317960" cy="269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正转继电器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7616520" y="3404880"/>
              <a:ext cx="1255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过热报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703320" y="4271760"/>
              <a:ext cx="96228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转速检测模块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665960" y="5234400"/>
              <a:ext cx="941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/D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转换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0440" y="3193200"/>
              <a:ext cx="94140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蜂鸣报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993080" y="1864440"/>
              <a:ext cx="1087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行程开关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013960" y="1113480"/>
              <a:ext cx="10879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行程开关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58640" y="29620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988680" y="2788920"/>
              <a:ext cx="29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39600" y="30776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470000" y="2772360"/>
              <a:ext cx="5976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825680" y="313812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25680" y="292644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rot="5400000">
              <a:off x="7288200" y="2705040"/>
              <a:ext cx="153720" cy="1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rot="5400000">
              <a:off x="7685640" y="2705040"/>
              <a:ext cx="153720" cy="167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rot="5400000">
              <a:off x="7476480" y="3090240"/>
              <a:ext cx="153720" cy="167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88680" y="278892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846560" y="27118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846560" y="278892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013960" y="2769480"/>
              <a:ext cx="1882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223120" y="27889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511760" y="278892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079840" y="3042000"/>
              <a:ext cx="5976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135200" y="3154680"/>
              <a:ext cx="20916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988680" y="317412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7344360" y="3174120"/>
              <a:ext cx="10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7637400" y="3174120"/>
              <a:ext cx="18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7637400" y="307764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7783560" y="2981160"/>
              <a:ext cx="29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950160" y="323172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7009560" y="3366720"/>
              <a:ext cx="41400" cy="15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7114320" y="3347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7114320" y="3443400"/>
              <a:ext cx="334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7428240" y="3366720"/>
              <a:ext cx="230040" cy="38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428240" y="3308760"/>
              <a:ext cx="230040" cy="57600"/>
            </a:xfrm>
            <a:custGeom>
              <a:avLst/>
              <a:gdLst>
                <a:gd name="textAreaLeft" fmla="*/ 50400 w 230040"/>
                <a:gd name="textAreaRight" fmla="*/ 179640 w 230040"/>
                <a:gd name="textAreaTop" fmla="*/ 12600 h 57600"/>
                <a:gd name="textAreaBottom" fmla="*/ 45000 h 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470000" y="34048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574400" y="340488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74400" y="344340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218720" y="363888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rot="5400000">
              <a:off x="7036920" y="3571560"/>
              <a:ext cx="153720" cy="167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rot="5400000">
              <a:off x="7434720" y="3571560"/>
              <a:ext cx="153720" cy="1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595280" y="3578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595280" y="36550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763040" y="3636000"/>
              <a:ext cx="1882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72200" y="3655080"/>
              <a:ext cx="4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260480" y="365508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218720" y="387000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rot="5400000">
              <a:off x="7036560" y="3802680"/>
              <a:ext cx="154080" cy="167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rot="5400000">
              <a:off x="7434720" y="3803040"/>
              <a:ext cx="154080" cy="1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595280" y="380952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7595280" y="38865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763040" y="3867120"/>
              <a:ext cx="1882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972200" y="3886560"/>
              <a:ext cx="4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60480" y="388656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218720" y="410112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rot="5400000">
              <a:off x="7036560" y="4033440"/>
              <a:ext cx="154080" cy="167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5400000">
              <a:off x="7434720" y="4033800"/>
              <a:ext cx="154080" cy="1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95280" y="4040280"/>
              <a:ext cx="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595280" y="4117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763040" y="4098240"/>
              <a:ext cx="188280" cy="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7972200" y="4117320"/>
              <a:ext cx="4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7260480" y="4117320"/>
              <a:ext cx="16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16520" y="3636000"/>
              <a:ext cx="1255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压过高报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616520" y="3847680"/>
              <a:ext cx="1255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速度异常报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7239600" y="4464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239600" y="47336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239600" y="5099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490880" y="4964760"/>
              <a:ext cx="13179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速度变换继电器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490880" y="4618080"/>
              <a:ext cx="1317960" cy="28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反转继电器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J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96000" y="4290840"/>
              <a:ext cx="379800" cy="904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8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EO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272920" y="4502520"/>
              <a:ext cx="460080" cy="269640"/>
            </a:xfrm>
            <a:prstGeom prst="leftRightArrow">
              <a:avLst>
                <a:gd name="adj1" fmla="val 50000"/>
                <a:gd name="adj2" fmla="val 339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272920" y="5041800"/>
              <a:ext cx="46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665960" y="442548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645080" y="4733640"/>
              <a:ext cx="23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665960" y="5061240"/>
              <a:ext cx="20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984280" y="1229040"/>
              <a:ext cx="75312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984280" y="1960560"/>
              <a:ext cx="753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984280" y="1710360"/>
              <a:ext cx="753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984280" y="1479240"/>
              <a:ext cx="75312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984280" y="2192040"/>
              <a:ext cx="753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963400" y="2422800"/>
              <a:ext cx="753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63400" y="2788920"/>
              <a:ext cx="75312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963400" y="3250800"/>
              <a:ext cx="753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963400" y="3501360"/>
              <a:ext cx="7531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088680" y="3963600"/>
              <a:ext cx="6372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963400" y="3732120"/>
              <a:ext cx="7531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607720" y="3077640"/>
              <a:ext cx="878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just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.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IN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026040" y="4579560"/>
              <a:ext cx="711360" cy="3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712120" y="4136760"/>
              <a:ext cx="606600" cy="86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6067800" y="70920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just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r>
                <a:rPr b="0" lang="en-US" sz="12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×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281720" y="2519280"/>
              <a:ext cx="7624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796000" y="5349960"/>
              <a:ext cx="794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T89C5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570000" y="3135240"/>
              <a:ext cx="75312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0" bIns="0" anchor="t">
              <a:noAutofit/>
            </a:bodyPr>
            <a:p>
              <a:pPr algn="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967800" y="2942640"/>
              <a:ext cx="41400" cy="38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796000" y="4213800"/>
              <a:ext cx="62280" cy="712440"/>
            </a:xfrm>
            <a:custGeom>
              <a:avLst/>
              <a:gdLst>
                <a:gd name="textAreaLeft" fmla="*/ 39960 w 62280"/>
                <a:gd name="textAreaRight" fmla="*/ 62640 w 62280"/>
                <a:gd name="textAreaTop" fmla="*/ 18360 h 712440"/>
                <a:gd name="textAreaBottom" fmla="*/ 694080 h 712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rot="5400000">
              <a:off x="4525920" y="3148200"/>
              <a:ext cx="154080" cy="167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08080" y="3215160"/>
              <a:ext cx="59400" cy="54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49840" y="3250800"/>
              <a:ext cx="98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1523880" y="586728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红外线自动门控制系统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2.2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红外线传感器集成芯片介绍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1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红外线传感器集成芯片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BISS000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特点（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7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CMOS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工艺，功耗低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具有独立的高输入阻抗运算放大器，可与多种传感器匹配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双向鉴幅器可有效抑制干扰信号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内设延时和封锁定时器，性能稳定，调节范围宽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内置参考电源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工作电压范围宽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V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5V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"/>
          <p:cNvGrpSpPr/>
          <p:nvPr/>
        </p:nvGrpSpPr>
        <p:grpSpPr>
          <a:xfrm>
            <a:off x="1523880" y="1447920"/>
            <a:ext cx="4533840" cy="4190400"/>
            <a:chOff x="1523880" y="1447920"/>
            <a:chExt cx="4533840" cy="4190400"/>
          </a:xfrm>
        </p:grpSpPr>
        <p:grpSp>
          <p:nvGrpSpPr>
            <p:cNvPr id="1108" name=""/>
            <p:cNvGrpSpPr/>
            <p:nvPr/>
          </p:nvGrpSpPr>
          <p:grpSpPr>
            <a:xfrm>
              <a:off x="1523880" y="1447920"/>
              <a:ext cx="4287240" cy="3252240"/>
              <a:chOff x="1523880" y="1447920"/>
              <a:chExt cx="4287240" cy="3252240"/>
            </a:xfrm>
          </p:grpSpPr>
          <p:sp>
            <p:nvSpPr>
              <p:cNvPr id="1109" name=""/>
              <p:cNvSpPr/>
              <p:nvPr/>
            </p:nvSpPr>
            <p:spPr>
              <a:xfrm>
                <a:off x="3066120" y="1478880"/>
                <a:ext cx="1695960" cy="3221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22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ISS00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2726280" y="163548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726640" y="16354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2726640" y="182304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2726280" y="201096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2726640" y="20109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2726640" y="219852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H="1">
                <a:off x="2726280" y="238608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726640" y="23860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726640" y="257364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>
                <a:off x="4762440" y="20109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101560" y="20109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62440" y="219852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4762440" y="23860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01560" y="23860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762440" y="257364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2726280" y="276120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726640" y="27612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726640" y="294876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2726280" y="313668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726640" y="31366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726640" y="332424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>
                <a:off x="2726280" y="351216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726640" y="35121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726640" y="369972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 flipH="1">
                <a:off x="2726280" y="388728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726640" y="38872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2726640" y="407484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H="1">
                <a:off x="2726280" y="426276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2726640" y="42627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2726640" y="445032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H="1">
                <a:off x="4762440" y="276120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101560" y="276120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4762440" y="29487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4762440" y="31053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01560" y="310536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762440" y="32932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4762440" y="34491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101560" y="344916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4762440" y="36370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H="1">
                <a:off x="4762440" y="38559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101560" y="38559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762440" y="404352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4762440" y="38559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101560" y="38559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4762440" y="404352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4762440" y="42310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101560" y="423108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762440" y="441900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4762440" y="163548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101560" y="163548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4762440" y="182304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4762440" y="201096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101560" y="2010960"/>
                <a:ext cx="0" cy="18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4762440" y="2198520"/>
                <a:ext cx="339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066120" y="1447920"/>
                <a:ext cx="4885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096720" y="185436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096720" y="222984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101400" y="260496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3101400" y="298044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3101400" y="335556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3101400" y="376200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7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3101400" y="410652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4582080" y="407484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4458960" y="3699720"/>
                <a:ext cx="4885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4484880" y="3293280"/>
                <a:ext cx="4885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4489560" y="294876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4489560" y="260496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58960" y="2229840"/>
                <a:ext cx="48852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453920" y="185436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458960" y="1478880"/>
                <a:ext cx="48852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2453760" y="144792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2356560" y="185436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202120" y="219852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2202120" y="257364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2206800" y="298044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C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2206800" y="3355560"/>
                <a:ext cx="48888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R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2299320" y="373068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1523880" y="4137480"/>
                <a:ext cx="114120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RF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/RES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168160" y="407484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168160" y="369972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163480" y="3324240"/>
                <a:ext cx="55476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V</a:t>
                </a:r>
                <a:r>
                  <a:rPr b="0" lang="en-US" sz="1600" spc="-1" strike="noStrike" baseline="-25000">
                    <a:solidFill>
                      <a:srgbClr val="000000"/>
                    </a:solidFill>
                    <a:latin typeface="Times New Roman"/>
                    <a:ea typeface="宋体"/>
                  </a:rPr>
                  <a:t>D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137200" y="2948760"/>
                <a:ext cx="61236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137200" y="260496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2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N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163480" y="2229840"/>
                <a:ext cx="647640" cy="40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N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163480" y="1823040"/>
                <a:ext cx="4888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IN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163480" y="1478880"/>
                <a:ext cx="616680" cy="40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O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1924560" y="4262760"/>
                <a:ext cx="70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801080" y="4762800"/>
              <a:ext cx="4256640" cy="87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6555600" y="1143000"/>
            <a:ext cx="9118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6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SS0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引脚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9" name=""/>
          <p:cNvGrpSpPr/>
          <p:nvPr/>
        </p:nvGrpSpPr>
        <p:grpSpPr>
          <a:xfrm>
            <a:off x="380880" y="762120"/>
            <a:ext cx="8686440" cy="4267080"/>
            <a:chOff x="380880" y="762120"/>
            <a:chExt cx="8686440" cy="4267080"/>
          </a:xfrm>
        </p:grpSpPr>
        <p:sp>
          <p:nvSpPr>
            <p:cNvPr id="1200" name=""/>
            <p:cNvSpPr/>
            <p:nvPr/>
          </p:nvSpPr>
          <p:spPr>
            <a:xfrm>
              <a:off x="889560" y="139608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889560" y="166536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333800" y="1165680"/>
              <a:ext cx="464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333800" y="1434600"/>
              <a:ext cx="46404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761840" y="1107720"/>
              <a:ext cx="328680" cy="19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060640" y="1527120"/>
              <a:ext cx="30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 rot="5400000">
              <a:off x="1419120" y="2313000"/>
              <a:ext cx="595800" cy="646200"/>
            </a:xfrm>
            <a:prstGeom prst="triangle">
              <a:avLst>
                <a:gd name="adj" fmla="val 498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253160" y="2511360"/>
              <a:ext cx="14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89560" y="2780280"/>
              <a:ext cx="50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1293480" y="2280240"/>
              <a:ext cx="464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293480" y="2549520"/>
              <a:ext cx="46440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706400" y="2215080"/>
              <a:ext cx="2984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017440" y="2634120"/>
              <a:ext cx="14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rot="5400000">
              <a:off x="3478680" y="1351800"/>
              <a:ext cx="595800" cy="646200"/>
            </a:xfrm>
            <a:prstGeom prst="triangle">
              <a:avLst>
                <a:gd name="adj" fmla="val 498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581560" y="1550160"/>
              <a:ext cx="87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908800" y="181908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353040" y="1319400"/>
              <a:ext cx="46440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353040" y="1588320"/>
              <a:ext cx="464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701520" y="1257840"/>
              <a:ext cx="4348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079880" y="16729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 rot="5400000">
              <a:off x="3478680" y="2158920"/>
              <a:ext cx="595800" cy="646200"/>
            </a:xfrm>
            <a:prstGeom prst="triangle">
              <a:avLst>
                <a:gd name="adj" fmla="val 498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888640" y="235728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353040" y="2126880"/>
              <a:ext cx="46440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353040" y="2395800"/>
              <a:ext cx="4644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595680" y="2055600"/>
              <a:ext cx="5054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079880" y="24775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rot="5400000">
              <a:off x="1479960" y="3389400"/>
              <a:ext cx="595800" cy="645840"/>
            </a:xfrm>
            <a:prstGeom prst="triangle">
              <a:avLst>
                <a:gd name="adj" fmla="val 498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909720" y="3587760"/>
              <a:ext cx="54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1253160" y="385668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353960" y="3357000"/>
              <a:ext cx="46440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353960" y="3625920"/>
              <a:ext cx="464400" cy="42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－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686960" y="3332160"/>
              <a:ext cx="4237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OP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2080800" y="3702960"/>
              <a:ext cx="349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89560" y="1991880"/>
              <a:ext cx="147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2363760" y="1527120"/>
              <a:ext cx="0" cy="4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909720" y="3107160"/>
              <a:ext cx="13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2282760" y="2641320"/>
              <a:ext cx="0" cy="46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2585880" y="1546200"/>
              <a:ext cx="0" cy="10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64800" y="1819080"/>
              <a:ext cx="585360" cy="480240"/>
            </a:xfrm>
            <a:prstGeom prst="flowChartDelay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42680" y="167688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4342680" y="224568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42680" y="224208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42680" y="1915200"/>
              <a:ext cx="22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150520" y="2068920"/>
              <a:ext cx="17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574240" y="3472200"/>
              <a:ext cx="645840" cy="4420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31960" y="2068920"/>
              <a:ext cx="0" cy="148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31960" y="3549240"/>
              <a:ext cx="2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465600" y="2437200"/>
              <a:ext cx="340200" cy="234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状态控制器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220440" y="370296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331960" y="3837240"/>
              <a:ext cx="24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11800" y="3837240"/>
              <a:ext cx="0" cy="2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31960" y="4125600"/>
              <a:ext cx="113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69400" y="4413960"/>
              <a:ext cx="561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686680" y="4567680"/>
              <a:ext cx="1191240" cy="403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参考电源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3877920" y="4683240"/>
              <a:ext cx="38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877920" y="4875480"/>
              <a:ext cx="38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302920" y="4683240"/>
              <a:ext cx="38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302920" y="4856040"/>
              <a:ext cx="38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272400" y="4413960"/>
              <a:ext cx="0" cy="15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129440" y="3664440"/>
              <a:ext cx="383400" cy="12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封锁时间定时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29440" y="2280240"/>
              <a:ext cx="383400" cy="126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延迟时间定时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826320" y="406800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826320" y="318384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H="1">
              <a:off x="6826320" y="2741760"/>
              <a:ext cx="28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H="1">
              <a:off x="6802560" y="449100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12840" y="2780280"/>
              <a:ext cx="44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33000" y="452952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533000" y="339552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533000" y="3952800"/>
              <a:ext cx="44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8219520" y="2934000"/>
              <a:ext cx="806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8179200" y="349164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8179200" y="358776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8260200" y="27802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8260200" y="331848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8280360" y="3587760"/>
              <a:ext cx="0" cy="2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8199360" y="3818160"/>
              <a:ext cx="181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936920" y="451008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936920" y="393336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936920" y="274176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917840" y="335412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239680" y="4106520"/>
              <a:ext cx="806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199360" y="46638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199360" y="475992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280360" y="392976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280360" y="44910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300520" y="4759920"/>
              <a:ext cx="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219520" y="4990680"/>
              <a:ext cx="181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017560" y="27802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017560" y="339552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8017560" y="39718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997400" y="4567680"/>
              <a:ext cx="2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8219520" y="1895760"/>
              <a:ext cx="80640" cy="38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8260200" y="174240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8260200" y="228024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8179200" y="2453400"/>
              <a:ext cx="181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492680" y="245340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957080" y="243432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553160" y="172296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017560" y="170352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553160" y="139608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8017560" y="135792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554240" y="1127160"/>
              <a:ext cx="48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8018640" y="1107720"/>
              <a:ext cx="7956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8098560" y="1742400"/>
              <a:ext cx="16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889560" y="1011600"/>
              <a:ext cx="57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64680" y="101160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786440" y="4394880"/>
              <a:ext cx="1047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020960" y="843840"/>
              <a:ext cx="14616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954360" y="1258920"/>
              <a:ext cx="2484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950040" y="1507680"/>
              <a:ext cx="206640" cy="17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024920" y="3434760"/>
              <a:ext cx="1321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994680" y="4269960"/>
              <a:ext cx="152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849240" y="973440"/>
              <a:ext cx="60480" cy="7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946080" y="1847160"/>
              <a:ext cx="216720" cy="16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961200" y="2963880"/>
              <a:ext cx="2217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949320" y="2617920"/>
              <a:ext cx="217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791480" y="2633400"/>
              <a:ext cx="1270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778520" y="2314080"/>
              <a:ext cx="1299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91480" y="1573920"/>
              <a:ext cx="19152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21720" y="1258920"/>
              <a:ext cx="119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83560" y="984960"/>
              <a:ext cx="2066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794720" y="3810600"/>
              <a:ext cx="1573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770240" y="3256920"/>
              <a:ext cx="1267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172160" y="762120"/>
              <a:ext cx="6542280" cy="426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9920" y="939960"/>
              <a:ext cx="2188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14680" y="135792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808920" y="162684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829080" y="195948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29080" y="272844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29080" y="307440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855360" y="353556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94520" y="4394880"/>
              <a:ext cx="74520" cy="70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71680" y="1494360"/>
              <a:ext cx="30852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36040" y="2056680"/>
              <a:ext cx="41004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1080" y="2543760"/>
              <a:ext cx="303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0920" y="3172320"/>
              <a:ext cx="3996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4000" y="3480840"/>
              <a:ext cx="2451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80880" y="4586040"/>
              <a:ext cx="77616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RF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/RE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47280" y="4548600"/>
              <a:ext cx="42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20920" y="1190520"/>
              <a:ext cx="3430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N+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71760" y="4608360"/>
              <a:ext cx="27360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276800" y="4796640"/>
              <a:ext cx="1875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015280" y="4598640"/>
              <a:ext cx="2383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35440" y="4777560"/>
              <a:ext cx="2379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673720" y="2253600"/>
              <a:ext cx="195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665440" y="1736280"/>
              <a:ext cx="2030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176480" y="2338920"/>
              <a:ext cx="248400" cy="17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226880" y="3677040"/>
              <a:ext cx="25848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121600" y="1026360"/>
              <a:ext cx="3016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102520" y="1312560"/>
              <a:ext cx="263520" cy="1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305560" y="1598040"/>
              <a:ext cx="150120" cy="1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I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941960" y="2246040"/>
              <a:ext cx="226080" cy="18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8239680" y="1857600"/>
              <a:ext cx="8276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8324640" y="3026160"/>
              <a:ext cx="172440" cy="18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8040960" y="2605320"/>
              <a:ext cx="3582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8006760" y="3810600"/>
              <a:ext cx="29268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8357760" y="4196880"/>
              <a:ext cx="172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8447760" y="4685040"/>
              <a:ext cx="21780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869240" y="4585320"/>
              <a:ext cx="30852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8431560" y="3460680"/>
              <a:ext cx="203040" cy="1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50240" y="3210840"/>
              <a:ext cx="292680" cy="20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C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609520" y="3332160"/>
              <a:ext cx="2584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610160" y="1672920"/>
              <a:ext cx="323280" cy="15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U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185800" y="1915200"/>
              <a:ext cx="273600" cy="1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311800" y="4206240"/>
              <a:ext cx="5209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RE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rot="5400000">
              <a:off x="1449720" y="1203840"/>
              <a:ext cx="595800" cy="645840"/>
            </a:xfrm>
            <a:prstGeom prst="triangle">
              <a:avLst>
                <a:gd name="adj" fmla="val 49838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6" name=""/>
          <p:cNvSpPr/>
          <p:nvPr/>
        </p:nvSpPr>
        <p:spPr>
          <a:xfrm>
            <a:off x="1447920" y="54864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7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ISS000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芯片内部电路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2.3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系统软件结构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整个系统软件主要由主程序、中断服务程序、门开启和关闭子程序、各种故障处理及报警子程序组成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主程序主要是完成系统进行初始化、中断设置、手动与自动切换等功能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中断服务程序包括两个外部中断和两个定时器中断（如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8~10-1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）。 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1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控制系统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.1.1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控制原理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.1.2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控制程序设计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8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.1.3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变速控制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0" name=""/>
          <p:cNvGrpSpPr/>
          <p:nvPr/>
        </p:nvGrpSpPr>
        <p:grpSpPr>
          <a:xfrm>
            <a:off x="1447920" y="533520"/>
            <a:ext cx="5935680" cy="5943600"/>
            <a:chOff x="1447920" y="533520"/>
            <a:chExt cx="5935680" cy="5943600"/>
          </a:xfrm>
        </p:grpSpPr>
        <p:sp>
          <p:nvSpPr>
            <p:cNvPr id="1371" name=""/>
            <p:cNvSpPr/>
            <p:nvPr/>
          </p:nvSpPr>
          <p:spPr>
            <a:xfrm>
              <a:off x="5303880" y="2564640"/>
              <a:ext cx="25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214240" y="1590120"/>
              <a:ext cx="0" cy="34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218560" y="5000040"/>
              <a:ext cx="32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950800" y="1766520"/>
              <a:ext cx="1072080" cy="2646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启动下一通道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990760" y="3636720"/>
              <a:ext cx="94392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通道号加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941440" y="1247400"/>
              <a:ext cx="1086120" cy="271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指向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0809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地址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573160" y="2323800"/>
              <a:ext cx="1810440" cy="4856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转换结束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542200" y="4751280"/>
              <a:ext cx="1810440" cy="4856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采样结束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000120" y="3079080"/>
              <a:ext cx="95004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数据存放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006240" y="4193640"/>
              <a:ext cx="932040" cy="288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数据指针加１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52680" y="5488560"/>
              <a:ext cx="819720" cy="306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1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74240" y="152208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458400" y="338436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464520" y="449280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486120" y="2813400"/>
              <a:ext cx="0" cy="26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480000" y="204372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455160" y="5798160"/>
              <a:ext cx="0" cy="26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458400" y="5236920"/>
              <a:ext cx="0" cy="25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461280" y="394200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897880" y="6064200"/>
              <a:ext cx="1160280" cy="41292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返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307120" y="2122560"/>
              <a:ext cx="1160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17120" y="157860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256440" y="2875320"/>
              <a:ext cx="16236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330880" y="4829400"/>
              <a:ext cx="1746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387400" y="2401200"/>
              <a:ext cx="13140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944680" y="687960"/>
              <a:ext cx="1082880" cy="3031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1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467400" y="993240"/>
              <a:ext cx="0" cy="2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086920" y="533520"/>
              <a:ext cx="912600" cy="304920"/>
            </a:xfrm>
            <a:prstGeom prst="flowChartAlternate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  始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638000" y="3956400"/>
              <a:ext cx="1794960" cy="28728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否手动方式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797480" y="1111680"/>
              <a:ext cx="1500120" cy="287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定时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1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885680" y="1675440"/>
              <a:ext cx="1330560" cy="323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定时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789560" y="2282760"/>
              <a:ext cx="1555560" cy="287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优先级设置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071440" y="2842920"/>
              <a:ext cx="1005840" cy="269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003040" y="4495320"/>
              <a:ext cx="1098360" cy="287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外部中断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009520" y="5037480"/>
              <a:ext cx="1067400" cy="34128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定时器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13360" y="4484520"/>
              <a:ext cx="1028880" cy="3049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外部中断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545120" y="3417480"/>
              <a:ext cx="2057760" cy="28728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系统是否有故障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60320" y="6079320"/>
              <a:ext cx="1438920" cy="34128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系统终止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550960" y="84240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550960" y="140976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66440" y="201672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581920" y="257364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566440" y="370512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575800" y="313020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48080" y="424764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557440" y="478260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550960" y="5391360"/>
              <a:ext cx="0" cy="26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727080" y="4100040"/>
              <a:ext cx="0" cy="3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736440" y="4789080"/>
              <a:ext cx="0" cy="87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278520" y="5810040"/>
              <a:ext cx="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36200" y="4100040"/>
              <a:ext cx="29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>
              <a:off x="1453680" y="56484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V="1">
              <a:off x="1447920" y="3235680"/>
              <a:ext cx="0" cy="241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452600" y="3234240"/>
              <a:ext cx="111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4471200" y="3561480"/>
              <a:ext cx="0" cy="224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615480" y="3561480"/>
              <a:ext cx="85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78520" y="5808960"/>
              <a:ext cx="1201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658320" y="3404160"/>
              <a:ext cx="236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649960" y="3199680"/>
              <a:ext cx="18000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15040" y="4305600"/>
              <a:ext cx="19548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3516840" y="3939480"/>
              <a:ext cx="170640" cy="15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06040" y="2122560"/>
              <a:ext cx="0" cy="44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36880" y="5303160"/>
              <a:ext cx="174600" cy="16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4" name=""/>
          <p:cNvSpPr/>
          <p:nvPr/>
        </p:nvSpPr>
        <p:spPr>
          <a:xfrm>
            <a:off x="2520" y="1219320"/>
            <a:ext cx="91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8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主程序流程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851240" y="685800"/>
            <a:ext cx="911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9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T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断服务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6" name=""/>
          <p:cNvGrpSpPr/>
          <p:nvPr/>
        </p:nvGrpSpPr>
        <p:grpSpPr>
          <a:xfrm>
            <a:off x="1479600" y="76320"/>
            <a:ext cx="4463640" cy="6629040"/>
            <a:chOff x="1479600" y="76320"/>
            <a:chExt cx="4463640" cy="6629040"/>
          </a:xfrm>
        </p:grpSpPr>
        <p:sp>
          <p:nvSpPr>
            <p:cNvPr id="1437" name=""/>
            <p:cNvSpPr/>
            <p:nvPr/>
          </p:nvSpPr>
          <p:spPr>
            <a:xfrm>
              <a:off x="2895840" y="1328040"/>
              <a:ext cx="1416600" cy="194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延时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083400" y="3897720"/>
              <a:ext cx="961920" cy="182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加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789280" y="6075000"/>
              <a:ext cx="1496520" cy="206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停机开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949480" y="5212800"/>
              <a:ext cx="1069200" cy="1947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减速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36680" y="2582280"/>
              <a:ext cx="988920" cy="18252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门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575440" y="2082960"/>
              <a:ext cx="2084760" cy="3286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人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575440" y="2935440"/>
              <a:ext cx="2084760" cy="2919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人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548800" y="3398400"/>
              <a:ext cx="2084760" cy="316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加速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495160" y="4238640"/>
              <a:ext cx="2085120" cy="316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有人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495160" y="4714200"/>
              <a:ext cx="2085120" cy="3297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减速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468520" y="5589000"/>
              <a:ext cx="2084760" cy="3056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停机否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800000" y="540720"/>
              <a:ext cx="3581640" cy="21492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系统是否有故障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27000" y="1681200"/>
              <a:ext cx="3554640" cy="243360"/>
            </a:xfrm>
            <a:prstGeom prst="flowChartPrepara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系统是否有故障</a:t>
              </a: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602080" y="938520"/>
              <a:ext cx="1977840" cy="20664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门子程序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591000" y="76608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618000" y="115272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618000" y="152280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618000" y="192492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618000" y="241200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564360" y="371484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644640" y="276516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526920" y="503748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5710680" y="648720"/>
              <a:ext cx="0" cy="53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607200" y="322308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537720" y="455760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553560" y="408276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507120" y="540756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3537720" y="6289200"/>
              <a:ext cx="0" cy="17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516120" y="5894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543400" y="6460920"/>
              <a:ext cx="2004840" cy="24444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中断返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5371200" y="651600"/>
              <a:ext cx="34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5387400" y="1800720"/>
              <a:ext cx="30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660200" y="3554640"/>
              <a:ext cx="4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3623040" y="3274920"/>
              <a:ext cx="14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V="1">
              <a:off x="5100120" y="3278520"/>
              <a:ext cx="0" cy="27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>
              <a:off x="3564360" y="4604040"/>
              <a:ext cx="140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V="1">
              <a:off x="4977000" y="4606200"/>
              <a:ext cx="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3506760" y="5478120"/>
              <a:ext cx="146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981320" y="5475600"/>
              <a:ext cx="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H="1">
              <a:off x="1693080" y="2246400"/>
              <a:ext cx="8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 flipH="1">
              <a:off x="1479600" y="3081600"/>
              <a:ext cx="11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 flipH="1">
              <a:off x="1484640" y="4397040"/>
              <a:ext cx="106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V="1">
              <a:off x="1479600" y="419040"/>
              <a:ext cx="0" cy="39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1479600" y="421920"/>
              <a:ext cx="20048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537720" y="29052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3564360" y="5960520"/>
              <a:ext cx="21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513040" y="538920"/>
              <a:ext cx="430200" cy="1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676960" y="76320"/>
              <a:ext cx="1733400" cy="2055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关外部中断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719520" y="810000"/>
              <a:ext cx="270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232000" y="2964240"/>
              <a:ext cx="2642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V="1">
              <a:off x="1706760" y="1218240"/>
              <a:ext cx="0" cy="102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714680" y="1218600"/>
              <a:ext cx="18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542480" y="5743800"/>
              <a:ext cx="4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367240" y="1577160"/>
              <a:ext cx="42084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755520" y="2440080"/>
              <a:ext cx="277920" cy="1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238200" y="3252960"/>
              <a:ext cx="217800" cy="1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790080" y="1967400"/>
              <a:ext cx="388800" cy="1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2258640" y="2056320"/>
              <a:ext cx="55728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7920" y="3730320"/>
              <a:ext cx="291240" cy="11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773960" y="3440880"/>
              <a:ext cx="244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2040840" y="4273920"/>
              <a:ext cx="2642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553280" y="4878000"/>
              <a:ext cx="4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680360" y="4761000"/>
              <a:ext cx="244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190320" y="4546800"/>
              <a:ext cx="244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657960" y="5046120"/>
              <a:ext cx="26424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170160" y="5913000"/>
              <a:ext cx="264600" cy="1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660200" y="5624280"/>
              <a:ext cx="244440" cy="1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4" name=""/>
          <p:cNvSpPr/>
          <p:nvPr/>
        </p:nvSpPr>
        <p:spPr>
          <a:xfrm>
            <a:off x="6571440" y="762120"/>
            <a:ext cx="91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外部中断服务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5" name=""/>
          <p:cNvGrpSpPr/>
          <p:nvPr/>
        </p:nvGrpSpPr>
        <p:grpSpPr>
          <a:xfrm>
            <a:off x="1762200" y="938160"/>
            <a:ext cx="4257720" cy="4852800"/>
            <a:chOff x="1762200" y="938160"/>
            <a:chExt cx="4257720" cy="4852800"/>
          </a:xfrm>
        </p:grpSpPr>
        <p:sp>
          <p:nvSpPr>
            <p:cNvPr id="1506" name=""/>
            <p:cNvSpPr/>
            <p:nvPr/>
          </p:nvSpPr>
          <p:spPr>
            <a:xfrm>
              <a:off x="2917440" y="1404000"/>
              <a:ext cx="1824840" cy="246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门状态检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3099960" y="2464560"/>
              <a:ext cx="1368360" cy="2628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加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099960" y="3543840"/>
              <a:ext cx="1368360" cy="2502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减速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2978640" y="4641840"/>
              <a:ext cx="1641960" cy="29700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电机停止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2704680" y="1854360"/>
              <a:ext cx="2219760" cy="4017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加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2613600" y="2964960"/>
              <a:ext cx="2372400" cy="406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减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583000" y="4012920"/>
              <a:ext cx="2372040" cy="40644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停止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3830040" y="165132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3799800" y="441972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776760" y="379548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3799800" y="337248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3799800" y="2734200"/>
              <a:ext cx="0" cy="23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3814920" y="2262600"/>
              <a:ext cx="0" cy="19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799800" y="4937400"/>
              <a:ext cx="0" cy="17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801880" y="5105520"/>
              <a:ext cx="2007000" cy="284400"/>
            </a:xfrm>
            <a:prstGeom prst="flowChartTermina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ctr">
                <a:spcBef>
                  <a:spcPts val="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返  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107080" y="1732320"/>
              <a:ext cx="170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106000" y="173232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121120" y="2051640"/>
              <a:ext cx="57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078280" y="2814840"/>
              <a:ext cx="167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073600" y="2814120"/>
              <a:ext cx="0" cy="35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081520" y="3168360"/>
              <a:ext cx="57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157120" y="3870720"/>
              <a:ext cx="158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39120" y="3869640"/>
              <a:ext cx="0" cy="34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37680" y="4214880"/>
              <a:ext cx="45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3977640" y="3380400"/>
              <a:ext cx="338760" cy="2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271240" y="3019680"/>
              <a:ext cx="3391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314080" y="1902960"/>
              <a:ext cx="278280" cy="16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3962520" y="2269080"/>
              <a:ext cx="369000" cy="17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286360" y="4050360"/>
              <a:ext cx="31644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921480" y="4445640"/>
              <a:ext cx="43020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3130560" y="938160"/>
              <a:ext cx="1429200" cy="246960"/>
            </a:xfrm>
            <a:prstGeom prst="flowChartProcess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  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3836160" y="1197720"/>
              <a:ext cx="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762200" y="5415840"/>
              <a:ext cx="4257720" cy="37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>
            <a:off x="6464160" y="1143000"/>
            <a:ext cx="5461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开门子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3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通用多点温度控制系统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762120" y="10666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1" action="ppaction://hlinksldjump"/>
              </a:rPr>
              <a:t>10.3.1  系统网络结构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2" action="ppaction://hlinksldjump"/>
              </a:rPr>
              <a:t>10.3.2  通信协议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3" action="ppaction://hlinksldjump"/>
              </a:rPr>
              <a:t>10.3.3  硬件电路	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7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339933"/>
                </a:solidFill>
                <a:uFillTx/>
                <a:latin typeface="Arial Narrow"/>
                <a:ea typeface="宋体"/>
                <a:hlinkClick r:id="rId4" action="ppaction://hlinksldjump"/>
              </a:rPr>
              <a:t>10.3.4  软件设计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3" name=""/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3.1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系统网络结构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990720" y="1523880"/>
            <a:ext cx="7009920" cy="2346120"/>
            <a:chOff x="990720" y="1523880"/>
            <a:chExt cx="7009920" cy="2346120"/>
          </a:xfrm>
        </p:grpSpPr>
        <p:grpSp>
          <p:nvGrpSpPr>
            <p:cNvPr id="1546" name=""/>
            <p:cNvGrpSpPr/>
            <p:nvPr/>
          </p:nvGrpSpPr>
          <p:grpSpPr>
            <a:xfrm>
              <a:off x="990720" y="3120120"/>
              <a:ext cx="1405440" cy="749880"/>
              <a:chOff x="990720" y="3120120"/>
              <a:chExt cx="1405440" cy="749880"/>
            </a:xfrm>
          </p:grpSpPr>
          <p:sp>
            <p:nvSpPr>
              <p:cNvPr id="1547" name=""/>
              <p:cNvSpPr/>
              <p:nvPr/>
            </p:nvSpPr>
            <p:spPr>
              <a:xfrm>
                <a:off x="990720" y="3120120"/>
                <a:ext cx="1405440" cy="74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noAutofit/>
              </a:bodyPr>
              <a:p>
                <a:pPr algn="just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S-485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接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从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1011600" y="3435120"/>
                <a:ext cx="13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 flipH="1" flipV="1">
              <a:off x="1668240" y="2761200"/>
              <a:ext cx="1404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1682640" y="2751840"/>
              <a:ext cx="56246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315200" y="2756520"/>
              <a:ext cx="108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82240" y="2756520"/>
              <a:ext cx="0" cy="37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21320" y="2383560"/>
              <a:ext cx="144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4" name=""/>
            <p:cNvGrpSpPr/>
            <p:nvPr/>
          </p:nvGrpSpPr>
          <p:grpSpPr>
            <a:xfrm>
              <a:off x="3818160" y="1523880"/>
              <a:ext cx="1622880" cy="851760"/>
              <a:chOff x="3818160" y="1523880"/>
              <a:chExt cx="1622880" cy="851760"/>
            </a:xfrm>
          </p:grpSpPr>
          <p:sp>
            <p:nvSpPr>
              <p:cNvPr id="1555" name=""/>
              <p:cNvSpPr/>
              <p:nvPr/>
            </p:nvSpPr>
            <p:spPr>
              <a:xfrm>
                <a:off x="3818160" y="1523880"/>
                <a:ext cx="1603440" cy="851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主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S-485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接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820680" y="2065320"/>
                <a:ext cx="1620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7" name=""/>
            <p:cNvSpPr/>
            <p:nvPr/>
          </p:nvSpPr>
          <p:spPr>
            <a:xfrm>
              <a:off x="4887000" y="3140280"/>
              <a:ext cx="1349640" cy="49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…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8" name=""/>
            <p:cNvGrpSpPr/>
            <p:nvPr/>
          </p:nvGrpSpPr>
          <p:grpSpPr>
            <a:xfrm>
              <a:off x="3178440" y="3120120"/>
              <a:ext cx="1405080" cy="749880"/>
              <a:chOff x="3178440" y="3120120"/>
              <a:chExt cx="1405080" cy="749880"/>
            </a:xfrm>
          </p:grpSpPr>
          <p:sp>
            <p:nvSpPr>
              <p:cNvPr id="1559" name=""/>
              <p:cNvSpPr/>
              <p:nvPr/>
            </p:nvSpPr>
            <p:spPr>
              <a:xfrm>
                <a:off x="3178440" y="3120120"/>
                <a:ext cx="1405080" cy="74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noAutofit/>
              </a:bodyPr>
              <a:p>
                <a:pPr algn="just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S-485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接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从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1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3199320" y="3435120"/>
                <a:ext cx="13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1" name=""/>
            <p:cNvGrpSpPr/>
            <p:nvPr/>
          </p:nvGrpSpPr>
          <p:grpSpPr>
            <a:xfrm>
              <a:off x="6595560" y="3120120"/>
              <a:ext cx="1405080" cy="749880"/>
              <a:chOff x="6595560" y="3120120"/>
              <a:chExt cx="1405080" cy="749880"/>
            </a:xfrm>
          </p:grpSpPr>
          <p:sp>
            <p:nvSpPr>
              <p:cNvPr id="1562" name=""/>
              <p:cNvSpPr/>
              <p:nvPr/>
            </p:nvSpPr>
            <p:spPr>
              <a:xfrm>
                <a:off x="6595560" y="3120120"/>
                <a:ext cx="1405080" cy="749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36000" bIns="36000" anchor="t">
                <a:noAutofit/>
              </a:bodyPr>
              <a:p>
                <a:pPr algn="just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RS-485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接口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从机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n#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6616440" y="3435120"/>
                <a:ext cx="137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4" name=""/>
          <p:cNvSpPr/>
          <p:nvPr/>
        </p:nvSpPr>
        <p:spPr>
          <a:xfrm>
            <a:off x="2819520" y="487692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结构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3.2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通信协议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通信过程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写指令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发指令——→从机接收指令——等待→反馈接收信息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读指令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主机发指令——→从机接收指令——等待→从机取出参数给主机——→等待——→主机反馈接收信息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通信设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从机站号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通信速率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通信再试次数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校验方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/>
          </p:nvPr>
        </p:nvSpPr>
        <p:spPr>
          <a:xfrm>
            <a:off x="609480" y="4572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数据格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主机到从机的通信数据格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数据写入的格式有两种，数据写入指的是主单片机对从单片机的发送指令。 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3657600" y="3048120"/>
            <a:ext cx="4647960" cy="685800"/>
            <a:chOff x="3657600" y="3048120"/>
            <a:chExt cx="4647960" cy="685800"/>
          </a:xfrm>
        </p:grpSpPr>
        <p:grpSp>
          <p:nvGrpSpPr>
            <p:cNvPr id="1571" name=""/>
            <p:cNvGrpSpPr/>
            <p:nvPr/>
          </p:nvGrpSpPr>
          <p:grpSpPr>
            <a:xfrm>
              <a:off x="3666600" y="3052440"/>
              <a:ext cx="4628160" cy="676800"/>
              <a:chOff x="3666600" y="3052440"/>
              <a:chExt cx="4628160" cy="676800"/>
            </a:xfrm>
          </p:grpSpPr>
          <p:grpSp>
            <p:nvGrpSpPr>
              <p:cNvPr id="1572" name=""/>
              <p:cNvGrpSpPr/>
              <p:nvPr/>
            </p:nvGrpSpPr>
            <p:grpSpPr>
              <a:xfrm>
                <a:off x="3666600" y="3052440"/>
                <a:ext cx="1429560" cy="676800"/>
                <a:chOff x="3666600" y="3052440"/>
                <a:chExt cx="1429560" cy="67680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3801600" y="3052440"/>
                  <a:ext cx="115920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从机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3666600" y="3052440"/>
                  <a:ext cx="142956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5096520" y="3052440"/>
                <a:ext cx="1479240" cy="676800"/>
                <a:chOff x="5096520" y="3052440"/>
                <a:chExt cx="1479240" cy="67680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5230800" y="3052440"/>
                  <a:ext cx="12103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指令代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5096520" y="3052440"/>
                  <a:ext cx="14792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576480" y="3052440"/>
                <a:ext cx="1718280" cy="676800"/>
                <a:chOff x="6576480" y="3052440"/>
                <a:chExt cx="1718280" cy="67680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11480" y="3052440"/>
                  <a:ext cx="14479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校验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576480" y="3052440"/>
                  <a:ext cx="171828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81" name=""/>
            <p:cNvSpPr/>
            <p:nvPr/>
          </p:nvSpPr>
          <p:spPr>
            <a:xfrm>
              <a:off x="3657600" y="3048120"/>
              <a:ext cx="4647960" cy="685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2" name=""/>
          <p:cNvGrpSpPr/>
          <p:nvPr/>
        </p:nvGrpSpPr>
        <p:grpSpPr>
          <a:xfrm>
            <a:off x="2133720" y="5029200"/>
            <a:ext cx="6171480" cy="685800"/>
            <a:chOff x="2133720" y="5029200"/>
            <a:chExt cx="6171480" cy="685800"/>
          </a:xfrm>
        </p:grpSpPr>
        <p:grpSp>
          <p:nvGrpSpPr>
            <p:cNvPr id="1583" name=""/>
            <p:cNvGrpSpPr/>
            <p:nvPr/>
          </p:nvGrpSpPr>
          <p:grpSpPr>
            <a:xfrm>
              <a:off x="2143080" y="5033520"/>
              <a:ext cx="6150960" cy="676800"/>
              <a:chOff x="2143080" y="5033520"/>
              <a:chExt cx="6150960" cy="676800"/>
            </a:xfrm>
          </p:grpSpPr>
          <p:grpSp>
            <p:nvGrpSpPr>
              <p:cNvPr id="1584" name=""/>
              <p:cNvGrpSpPr/>
              <p:nvPr/>
            </p:nvGrpSpPr>
            <p:grpSpPr>
              <a:xfrm>
                <a:off x="2143080" y="5033520"/>
                <a:ext cx="1341360" cy="676800"/>
                <a:chOff x="2143080" y="5033520"/>
                <a:chExt cx="1341360" cy="67680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2282400" y="5033520"/>
                  <a:ext cx="106236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从机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2143080" y="5033520"/>
                  <a:ext cx="134136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3485160" y="5033520"/>
                <a:ext cx="1551600" cy="676800"/>
                <a:chOff x="3485160" y="5033520"/>
                <a:chExt cx="1551600" cy="67680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3623760" y="5033520"/>
                  <a:ext cx="12733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指令代码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485160" y="5033520"/>
                  <a:ext cx="15516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5037480" y="5033520"/>
                <a:ext cx="1752840" cy="676800"/>
                <a:chOff x="5037480" y="5033520"/>
                <a:chExt cx="1752840" cy="67680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5176800" y="5033520"/>
                  <a:ext cx="147384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指令参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5037480" y="5033520"/>
                  <a:ext cx="175284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6791040" y="5033520"/>
                <a:ext cx="1503000" cy="676800"/>
                <a:chOff x="6791040" y="5033520"/>
                <a:chExt cx="1503000" cy="67680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6929640" y="5033520"/>
                  <a:ext cx="1224720" cy="67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校验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6791040" y="5033520"/>
                  <a:ext cx="1503000" cy="67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96" name=""/>
            <p:cNvSpPr/>
            <p:nvPr/>
          </p:nvSpPr>
          <p:spPr>
            <a:xfrm>
              <a:off x="2133720" y="5029200"/>
              <a:ext cx="6171480" cy="685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7" name=""/>
          <p:cNvSpPr/>
          <p:nvPr/>
        </p:nvSpPr>
        <p:spPr>
          <a:xfrm>
            <a:off x="1295280" y="312408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838080" y="3051000"/>
            <a:ext cx="28195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格式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读指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762120" y="4191120"/>
            <a:ext cx="3429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格式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写指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792504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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仿宋_GB2312"/>
              </a:rPr>
              <a:t>从机到主机的数据格式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不论主机发送的指令是何种格式，从机收到主机指令后都要向主机发回确认信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2057400" y="4648320"/>
            <a:ext cx="6019560" cy="739800"/>
            <a:chOff x="2057400" y="4648320"/>
            <a:chExt cx="6019560" cy="739800"/>
          </a:xfrm>
        </p:grpSpPr>
        <p:grpSp>
          <p:nvGrpSpPr>
            <p:cNvPr id="1602" name=""/>
            <p:cNvGrpSpPr/>
            <p:nvPr/>
          </p:nvGrpSpPr>
          <p:grpSpPr>
            <a:xfrm>
              <a:off x="2066400" y="4653000"/>
              <a:ext cx="5999760" cy="730080"/>
              <a:chOff x="2066400" y="4653000"/>
              <a:chExt cx="5999760" cy="730080"/>
            </a:xfrm>
          </p:grpSpPr>
          <p:grpSp>
            <p:nvGrpSpPr>
              <p:cNvPr id="1603" name=""/>
              <p:cNvGrpSpPr/>
              <p:nvPr/>
            </p:nvGrpSpPr>
            <p:grpSpPr>
              <a:xfrm>
                <a:off x="2066400" y="4653000"/>
                <a:ext cx="1308600" cy="730080"/>
                <a:chOff x="2066400" y="4653000"/>
                <a:chExt cx="1308600" cy="73008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2202480" y="4653000"/>
                  <a:ext cx="10360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从机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2066400" y="4653000"/>
                  <a:ext cx="13086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3375360" y="4653000"/>
                <a:ext cx="1513440" cy="730080"/>
                <a:chOff x="3375360" y="4653000"/>
                <a:chExt cx="1513440" cy="73008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3510720" y="4653000"/>
                  <a:ext cx="12416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YES/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3375360" y="4653000"/>
                  <a:ext cx="151344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9" name=""/>
              <p:cNvGrpSpPr/>
              <p:nvPr/>
            </p:nvGrpSpPr>
            <p:grpSpPr>
              <a:xfrm>
                <a:off x="4889520" y="4653000"/>
                <a:ext cx="1710000" cy="730080"/>
                <a:chOff x="4889520" y="4653000"/>
                <a:chExt cx="1710000" cy="730080"/>
              </a:xfrm>
            </p:grpSpPr>
            <p:sp>
              <p:nvSpPr>
                <p:cNvPr id="1610" name=""/>
                <p:cNvSpPr/>
                <p:nvPr/>
              </p:nvSpPr>
              <p:spPr>
                <a:xfrm>
                  <a:off x="5025600" y="4653000"/>
                  <a:ext cx="14374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返回数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4889520" y="4653000"/>
                  <a:ext cx="17100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2" name=""/>
              <p:cNvGrpSpPr/>
              <p:nvPr/>
            </p:nvGrpSpPr>
            <p:grpSpPr>
              <a:xfrm>
                <a:off x="6599880" y="4653000"/>
                <a:ext cx="1466280" cy="730080"/>
                <a:chOff x="6599880" y="4653000"/>
                <a:chExt cx="1466280" cy="730080"/>
              </a:xfrm>
            </p:grpSpPr>
            <p:sp>
              <p:nvSpPr>
                <p:cNvPr id="1613" name=""/>
                <p:cNvSpPr/>
                <p:nvPr/>
              </p:nvSpPr>
              <p:spPr>
                <a:xfrm>
                  <a:off x="6735240" y="4653000"/>
                  <a:ext cx="119448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校验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>
                  <a:off x="6599880" y="4653000"/>
                  <a:ext cx="146628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5" name=""/>
            <p:cNvSpPr/>
            <p:nvPr/>
          </p:nvSpPr>
          <p:spPr>
            <a:xfrm>
              <a:off x="2057400" y="4648320"/>
              <a:ext cx="6019560" cy="73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6" name=""/>
          <p:cNvGrpSpPr/>
          <p:nvPr/>
        </p:nvGrpSpPr>
        <p:grpSpPr>
          <a:xfrm>
            <a:off x="2209680" y="3276720"/>
            <a:ext cx="4571640" cy="739800"/>
            <a:chOff x="2209680" y="3276720"/>
            <a:chExt cx="4571640" cy="739800"/>
          </a:xfrm>
        </p:grpSpPr>
        <p:grpSp>
          <p:nvGrpSpPr>
            <p:cNvPr id="1617" name=""/>
            <p:cNvGrpSpPr/>
            <p:nvPr/>
          </p:nvGrpSpPr>
          <p:grpSpPr>
            <a:xfrm>
              <a:off x="2218680" y="3281400"/>
              <a:ext cx="4551840" cy="730080"/>
              <a:chOff x="2218680" y="3281400"/>
              <a:chExt cx="4551840" cy="730080"/>
            </a:xfrm>
          </p:grpSpPr>
          <p:grpSp>
            <p:nvGrpSpPr>
              <p:cNvPr id="1618" name=""/>
              <p:cNvGrpSpPr/>
              <p:nvPr/>
            </p:nvGrpSpPr>
            <p:grpSpPr>
              <a:xfrm>
                <a:off x="2218680" y="3281400"/>
                <a:ext cx="1314000" cy="730080"/>
                <a:chOff x="2218680" y="3281400"/>
                <a:chExt cx="1314000" cy="730080"/>
              </a:xfrm>
            </p:grpSpPr>
            <p:sp>
              <p:nvSpPr>
                <p:cNvPr id="1619" name=""/>
                <p:cNvSpPr/>
                <p:nvPr/>
              </p:nvSpPr>
              <p:spPr>
                <a:xfrm>
                  <a:off x="2355120" y="3281400"/>
                  <a:ext cx="10404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从机号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0" name=""/>
                <p:cNvSpPr/>
                <p:nvPr/>
              </p:nvSpPr>
              <p:spPr>
                <a:xfrm>
                  <a:off x="2218680" y="3281400"/>
                  <a:ext cx="13140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1" name=""/>
              <p:cNvGrpSpPr/>
              <p:nvPr/>
            </p:nvGrpSpPr>
            <p:grpSpPr>
              <a:xfrm>
                <a:off x="3533040" y="3281400"/>
                <a:ext cx="1519920" cy="730080"/>
                <a:chOff x="3533040" y="3281400"/>
                <a:chExt cx="1519920" cy="730080"/>
              </a:xfrm>
            </p:grpSpPr>
            <p:sp>
              <p:nvSpPr>
                <p:cNvPr id="1622" name=""/>
                <p:cNvSpPr/>
                <p:nvPr/>
              </p:nvSpPr>
              <p:spPr>
                <a:xfrm>
                  <a:off x="3668760" y="3281400"/>
                  <a:ext cx="124704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YES/N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3533040" y="3281400"/>
                  <a:ext cx="151992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4" name=""/>
              <p:cNvGrpSpPr/>
              <p:nvPr/>
            </p:nvGrpSpPr>
            <p:grpSpPr>
              <a:xfrm>
                <a:off x="5053320" y="3281400"/>
                <a:ext cx="1717200" cy="730080"/>
                <a:chOff x="5053320" y="3281400"/>
                <a:chExt cx="1717200" cy="730080"/>
              </a:xfrm>
            </p:grpSpPr>
            <p:sp>
              <p:nvSpPr>
                <p:cNvPr id="1625" name=""/>
                <p:cNvSpPr/>
                <p:nvPr/>
              </p:nvSpPr>
              <p:spPr>
                <a:xfrm>
                  <a:off x="5189760" y="3281400"/>
                  <a:ext cx="1443600" cy="73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校验和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5053320" y="3281400"/>
                  <a:ext cx="1717200" cy="73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7" name=""/>
            <p:cNvSpPr/>
            <p:nvPr/>
          </p:nvSpPr>
          <p:spPr>
            <a:xfrm>
              <a:off x="2209680" y="3276720"/>
              <a:ext cx="4571640" cy="739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8" name=""/>
          <p:cNvSpPr/>
          <p:nvPr/>
        </p:nvSpPr>
        <p:spPr>
          <a:xfrm>
            <a:off x="1066680" y="2590920"/>
            <a:ext cx="1905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格式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A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914400" y="3657600"/>
            <a:ext cx="190512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格式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宋体"/>
              </a:rPr>
              <a:t>B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3.3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硬件电路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T89C5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具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内核，指令系统与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CS-5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单片机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0%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兼容，片内有 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K  Flash EPRO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5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字节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RA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个中断源，一个串行口，最高工作频率可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4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M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完全可满足本系统的需要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主机管理各从机，负责系统的各温度测控点数据的收集与处理。从机负责现场数据的采集以及现场温度的控制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系统的主从机硬件结构原理图分别见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1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和图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0-15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3" name=""/>
          <p:cNvSpPr/>
          <p:nvPr/>
        </p:nvSpPr>
        <p:spPr>
          <a:xfrm>
            <a:off x="7315200" y="63828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5800" y="685800"/>
            <a:ext cx="7619760" cy="4038120"/>
            <a:chOff x="685800" y="685800"/>
            <a:chExt cx="7619760" cy="4038120"/>
          </a:xfrm>
        </p:grpSpPr>
        <p:sp>
          <p:nvSpPr>
            <p:cNvPr id="46" name=""/>
            <p:cNvSpPr/>
            <p:nvPr/>
          </p:nvSpPr>
          <p:spPr>
            <a:xfrm>
              <a:off x="2270160" y="1230120"/>
              <a:ext cx="900720" cy="3398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85800" y="1868400"/>
              <a:ext cx="618840" cy="266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5380800">
              <a:off x="3308760" y="4259520"/>
              <a:ext cx="272160" cy="212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180240" y="437328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5380800">
              <a:off x="3308760" y="3755880"/>
              <a:ext cx="272160" cy="212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180240" y="3869640"/>
              <a:ext cx="162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rot="5380800">
              <a:off x="3308760" y="2791800"/>
              <a:ext cx="272160" cy="212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0240" y="2905560"/>
              <a:ext cx="16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556080" y="2898360"/>
              <a:ext cx="16236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631480" y="830880"/>
              <a:ext cx="0" cy="30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94400" y="783360"/>
              <a:ext cx="74160" cy="47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763240" y="685800"/>
              <a:ext cx="53856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+27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39520" y="4373280"/>
              <a:ext cx="31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71520" y="2905560"/>
              <a:ext cx="0" cy="146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915680" y="3224520"/>
              <a:ext cx="0" cy="130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721760" y="3208680"/>
              <a:ext cx="0" cy="148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318720" y="3208680"/>
              <a:ext cx="0" cy="13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721760" y="4532760"/>
              <a:ext cx="319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47240" y="4692240"/>
              <a:ext cx="1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703040" y="4501080"/>
              <a:ext cx="370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300360" y="4501080"/>
              <a:ext cx="370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4313160" y="1150200"/>
              <a:ext cx="389520" cy="797760"/>
              <a:chOff x="4313160" y="1150200"/>
              <a:chExt cx="389520" cy="79776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4313160" y="1421280"/>
                <a:ext cx="167040" cy="254880"/>
                <a:chOff x="4313160" y="1421280"/>
                <a:chExt cx="167040" cy="2548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313160" y="1421280"/>
                  <a:ext cx="16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4331520" y="1421280"/>
                  <a:ext cx="111240" cy="254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1" name=""/>
              <p:cNvSpPr/>
              <p:nvPr/>
            </p:nvSpPr>
            <p:spPr>
              <a:xfrm>
                <a:off x="4387320" y="115020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387320" y="16765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405680" y="1947960"/>
                <a:ext cx="27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4591440" y="1341720"/>
                <a:ext cx="111240" cy="446400"/>
              </a:xfrm>
              <a:custGeom>
                <a:avLst/>
                <a:gdLst/>
                <a:ahLst/>
                <a:rect l="l" t="t" r="r" b="b"/>
                <a:pathLst>
                  <a:path w="276" h="624">
                    <a:moveTo>
                      <a:pt x="255" y="0"/>
                    </a:moveTo>
                    <a:cubicBezTo>
                      <a:pt x="127" y="37"/>
                      <a:pt x="0" y="75"/>
                      <a:pt x="3" y="112"/>
                    </a:cubicBezTo>
                    <a:cubicBezTo>
                      <a:pt x="6" y="149"/>
                      <a:pt x="276" y="187"/>
                      <a:pt x="276" y="224"/>
                    </a:cubicBezTo>
                    <a:cubicBezTo>
                      <a:pt x="276" y="261"/>
                      <a:pt x="6" y="301"/>
                      <a:pt x="3" y="336"/>
                    </a:cubicBezTo>
                    <a:cubicBezTo>
                      <a:pt x="0" y="371"/>
                      <a:pt x="255" y="403"/>
                      <a:pt x="255" y="432"/>
                    </a:cubicBezTo>
                    <a:cubicBezTo>
                      <a:pt x="255" y="461"/>
                      <a:pt x="3" y="480"/>
                      <a:pt x="3" y="512"/>
                    </a:cubicBezTo>
                    <a:cubicBezTo>
                      <a:pt x="3" y="544"/>
                      <a:pt x="255" y="579"/>
                      <a:pt x="255" y="6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684320" y="118188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684320" y="178812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4665960" y="2059920"/>
              <a:ext cx="7416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55880" y="1820520"/>
              <a:ext cx="7416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792960" y="1134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92960" y="220356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923280" y="27777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23280" y="2743920"/>
              <a:ext cx="18648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44160" y="2921400"/>
              <a:ext cx="1828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681720" y="290556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17280" y="29372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517280" y="2921400"/>
              <a:ext cx="190800" cy="1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8520" y="3080880"/>
              <a:ext cx="1828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76080" y="306504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127400" y="3065040"/>
              <a:ext cx="2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57360" y="30650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33188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97872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71680" y="3336120"/>
              <a:ext cx="15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6000" y="333612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721760" y="32403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0304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24584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792960" y="292140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2960" y="333612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09040" y="2746080"/>
              <a:ext cx="57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03040" y="260244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684320" y="27298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25920" y="2551320"/>
              <a:ext cx="1225440" cy="1039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84320" y="193212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03040" y="2458800"/>
              <a:ext cx="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910120" y="1150200"/>
              <a:ext cx="389520" cy="797760"/>
              <a:chOff x="5910120" y="1150200"/>
              <a:chExt cx="389520" cy="797760"/>
            </a:xfrm>
          </p:grpSpPr>
          <p:grpSp>
            <p:nvGrpSpPr>
              <p:cNvPr id="107" name=""/>
              <p:cNvGrpSpPr/>
              <p:nvPr/>
            </p:nvGrpSpPr>
            <p:grpSpPr>
              <a:xfrm>
                <a:off x="5910120" y="1421280"/>
                <a:ext cx="167040" cy="254880"/>
                <a:chOff x="5910120" y="1421280"/>
                <a:chExt cx="167040" cy="254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910120" y="1421280"/>
                  <a:ext cx="16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928480" y="1421280"/>
                  <a:ext cx="111240" cy="254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5984280" y="115020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984280" y="16765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02640" y="1947960"/>
                <a:ext cx="27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88400" y="1341720"/>
                <a:ext cx="111240" cy="446400"/>
              </a:xfrm>
              <a:custGeom>
                <a:avLst/>
                <a:gdLst/>
                <a:ahLst/>
                <a:rect l="l" t="t" r="r" b="b"/>
                <a:pathLst>
                  <a:path w="276" h="624">
                    <a:moveTo>
                      <a:pt x="255" y="0"/>
                    </a:moveTo>
                    <a:cubicBezTo>
                      <a:pt x="127" y="37"/>
                      <a:pt x="0" y="75"/>
                      <a:pt x="3" y="112"/>
                    </a:cubicBezTo>
                    <a:cubicBezTo>
                      <a:pt x="6" y="149"/>
                      <a:pt x="276" y="187"/>
                      <a:pt x="276" y="224"/>
                    </a:cubicBezTo>
                    <a:cubicBezTo>
                      <a:pt x="276" y="261"/>
                      <a:pt x="6" y="301"/>
                      <a:pt x="3" y="336"/>
                    </a:cubicBezTo>
                    <a:cubicBezTo>
                      <a:pt x="0" y="371"/>
                      <a:pt x="255" y="403"/>
                      <a:pt x="255" y="432"/>
                    </a:cubicBezTo>
                    <a:cubicBezTo>
                      <a:pt x="255" y="461"/>
                      <a:pt x="3" y="480"/>
                      <a:pt x="3" y="512"/>
                    </a:cubicBezTo>
                    <a:cubicBezTo>
                      <a:pt x="3" y="544"/>
                      <a:pt x="255" y="579"/>
                      <a:pt x="255" y="6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281280" y="118188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281280" y="178812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6263280" y="2059920"/>
              <a:ext cx="7416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353200" y="1820520"/>
              <a:ext cx="7416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90280" y="1134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390280" y="220356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520240" y="27777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520240" y="2747880"/>
              <a:ext cx="19008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41480" y="2921400"/>
              <a:ext cx="1828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9040" y="290556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5873040" y="2921400"/>
              <a:ext cx="445320" cy="302400"/>
              <a:chOff x="5873040" y="2921400"/>
              <a:chExt cx="445320" cy="302400"/>
            </a:xfrm>
          </p:grpSpPr>
          <p:sp>
            <p:nvSpPr>
              <p:cNvPr id="125" name=""/>
              <p:cNvSpPr/>
              <p:nvPr/>
            </p:nvSpPr>
            <p:spPr>
              <a:xfrm>
                <a:off x="6114240" y="2937240"/>
                <a:ext cx="0" cy="28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113880" y="2921400"/>
                <a:ext cx="166680" cy="15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135480" y="3080520"/>
                <a:ext cx="182880" cy="14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73040" y="3064680"/>
                <a:ext cx="259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5724360" y="3065040"/>
              <a:ext cx="2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54320" y="30650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92884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57604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58920" y="3336120"/>
              <a:ext cx="15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32960" y="333612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18720" y="32403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0036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316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90280" y="292140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390280" y="333612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06000" y="2746080"/>
              <a:ext cx="57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360" y="260244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81640" y="27298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23240" y="2551320"/>
              <a:ext cx="1225440" cy="1039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81640" y="193212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300360" y="2458800"/>
              <a:ext cx="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7507440" y="1150200"/>
              <a:ext cx="389520" cy="797760"/>
              <a:chOff x="7507440" y="1150200"/>
              <a:chExt cx="389520" cy="79776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7507440" y="1421280"/>
                <a:ext cx="167040" cy="254880"/>
                <a:chOff x="7507440" y="1421280"/>
                <a:chExt cx="167040" cy="2548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507440" y="1421280"/>
                  <a:ext cx="1670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25800" y="1421280"/>
                  <a:ext cx="111240" cy="254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0" name=""/>
              <p:cNvSpPr/>
              <p:nvPr/>
            </p:nvSpPr>
            <p:spPr>
              <a:xfrm>
                <a:off x="7581600" y="115020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581600" y="1676520"/>
                <a:ext cx="0" cy="27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599960" y="1947960"/>
                <a:ext cx="278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785720" y="1341720"/>
                <a:ext cx="111240" cy="446400"/>
              </a:xfrm>
              <a:custGeom>
                <a:avLst/>
                <a:gdLst/>
                <a:ahLst/>
                <a:rect l="l" t="t" r="r" b="b"/>
                <a:pathLst>
                  <a:path w="276" h="624">
                    <a:moveTo>
                      <a:pt x="255" y="0"/>
                    </a:moveTo>
                    <a:cubicBezTo>
                      <a:pt x="127" y="37"/>
                      <a:pt x="0" y="75"/>
                      <a:pt x="3" y="112"/>
                    </a:cubicBezTo>
                    <a:cubicBezTo>
                      <a:pt x="6" y="149"/>
                      <a:pt x="276" y="187"/>
                      <a:pt x="276" y="224"/>
                    </a:cubicBezTo>
                    <a:cubicBezTo>
                      <a:pt x="276" y="261"/>
                      <a:pt x="6" y="301"/>
                      <a:pt x="3" y="336"/>
                    </a:cubicBezTo>
                    <a:cubicBezTo>
                      <a:pt x="0" y="371"/>
                      <a:pt x="255" y="403"/>
                      <a:pt x="255" y="432"/>
                    </a:cubicBezTo>
                    <a:cubicBezTo>
                      <a:pt x="255" y="461"/>
                      <a:pt x="3" y="480"/>
                      <a:pt x="3" y="512"/>
                    </a:cubicBezTo>
                    <a:cubicBezTo>
                      <a:pt x="3" y="544"/>
                      <a:pt x="255" y="579"/>
                      <a:pt x="255" y="6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878600" y="118188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878600" y="1788120"/>
                <a:ext cx="0" cy="15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7860240" y="2059920"/>
              <a:ext cx="74160" cy="38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50160" y="1820520"/>
              <a:ext cx="74160" cy="38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987240" y="1134360"/>
              <a:ext cx="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87240" y="2203560"/>
              <a:ext cx="0" cy="90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117200" y="27777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116840" y="2747880"/>
              <a:ext cx="180360" cy="17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38440" y="2921400"/>
              <a:ext cx="1828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76000" y="290556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711560" y="29372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711560" y="2922480"/>
              <a:ext cx="18360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732800" y="3080880"/>
              <a:ext cx="18288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470360" y="3065040"/>
              <a:ext cx="25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321680" y="3065040"/>
              <a:ext cx="2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51640" y="30650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2616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173000" y="3304440"/>
              <a:ext cx="185400" cy="63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363080" y="3336120"/>
              <a:ext cx="16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30280" y="3336120"/>
              <a:ext cx="1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915680" y="324036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9732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40120" y="33202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987240" y="2921400"/>
              <a:ext cx="0" cy="41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87240" y="3336120"/>
              <a:ext cx="18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03320" y="2746080"/>
              <a:ext cx="57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897320" y="260244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878600" y="2729880"/>
              <a:ext cx="1836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820200" y="2551320"/>
              <a:ext cx="1225440" cy="10396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78600" y="193212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97320" y="2458800"/>
              <a:ext cx="0" cy="17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92960" y="1134360"/>
              <a:ext cx="408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684320" y="1134360"/>
              <a:ext cx="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984640" y="1134360"/>
              <a:ext cx="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81640" y="1134360"/>
              <a:ext cx="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878600" y="1118520"/>
              <a:ext cx="0" cy="19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65960" y="11185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68960" y="11185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47200" y="11023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63280" y="11023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81600" y="1134360"/>
              <a:ext cx="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8600" y="1134360"/>
              <a:ext cx="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63240" y="11023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860240" y="11023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78600" y="271368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263280" y="271368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84320" y="271368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684320" y="328824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74600" y="2889720"/>
              <a:ext cx="37080" cy="47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371560" y="28735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300360" y="330444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968880" y="287352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878600" y="3304440"/>
              <a:ext cx="3708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58840" y="1373760"/>
              <a:ext cx="5382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318720" y="1354680"/>
              <a:ext cx="53856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15680" y="1370880"/>
              <a:ext cx="38988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ML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539520" y="3862800"/>
              <a:ext cx="155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93280" y="2905560"/>
              <a:ext cx="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93280" y="2905560"/>
              <a:ext cx="2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71520" y="2905560"/>
              <a:ext cx="22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85840" y="1865520"/>
              <a:ext cx="297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50240" y="2107440"/>
              <a:ext cx="297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5920" y="2139480"/>
              <a:ext cx="297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526160" y="2123640"/>
              <a:ext cx="2970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5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01520" y="1884240"/>
              <a:ext cx="297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98840" y="1836360"/>
              <a:ext cx="297000" cy="30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4280" y="4421160"/>
              <a:ext cx="538560" cy="3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40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27480" y="2554560"/>
              <a:ext cx="501120" cy="111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30080" y="1373760"/>
              <a:ext cx="38988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803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71640" y="2793600"/>
              <a:ext cx="37116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25640" y="3687120"/>
              <a:ext cx="335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853000" y="4308480"/>
              <a:ext cx="326880" cy="26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3040" y="1916280"/>
              <a:ext cx="34632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87400" y="2809800"/>
              <a:ext cx="23256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64560" y="2809800"/>
              <a:ext cx="21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Q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87400" y="3671280"/>
              <a:ext cx="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26560" y="376704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006560" y="4532760"/>
              <a:ext cx="0" cy="12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57960" y="4660560"/>
              <a:ext cx="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006560" y="2027880"/>
              <a:ext cx="281880" cy="63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19880" y="3033000"/>
              <a:ext cx="204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27680" y="2043720"/>
              <a:ext cx="943560" cy="159480"/>
            </a:xfrm>
            <a:prstGeom prst="leftArrow">
              <a:avLst>
                <a:gd name="adj1" fmla="val 50000"/>
                <a:gd name="adj2" fmla="val 14791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18160" y="3176640"/>
              <a:ext cx="262440" cy="111240"/>
            </a:xfrm>
            <a:prstGeom prst="leftArrow">
              <a:avLst>
                <a:gd name="adj1" fmla="val 50000"/>
                <a:gd name="adj2" fmla="val 5898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39280" y="2969280"/>
              <a:ext cx="284760" cy="59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1288440" y="4341240"/>
              <a:ext cx="96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298160" y="3208680"/>
              <a:ext cx="223560" cy="95400"/>
            </a:xfrm>
            <a:prstGeom prst="leftArrow">
              <a:avLst>
                <a:gd name="adj1" fmla="val 50000"/>
                <a:gd name="adj2" fmla="val 585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37600" y="269820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5440" y="3655440"/>
              <a:ext cx="3207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17960" y="3250440"/>
              <a:ext cx="952200" cy="743760"/>
            </a:xfrm>
            <a:custGeom>
              <a:avLst/>
              <a:gdLst/>
              <a:ahLst/>
              <a:rect l="l" t="t" r="r" b="b"/>
              <a:pathLst>
                <a:path w="1077" h="746">
                  <a:moveTo>
                    <a:pt x="951" y="144"/>
                  </a:moveTo>
                  <a:lnTo>
                    <a:pt x="951" y="654"/>
                  </a:lnTo>
                  <a:lnTo>
                    <a:pt x="0" y="656"/>
                  </a:lnTo>
                  <a:lnTo>
                    <a:pt x="0" y="746"/>
                  </a:lnTo>
                  <a:lnTo>
                    <a:pt x="1023" y="744"/>
                  </a:lnTo>
                  <a:lnTo>
                    <a:pt x="1023" y="144"/>
                  </a:lnTo>
                  <a:lnTo>
                    <a:pt x="1077" y="144"/>
                  </a:lnTo>
                  <a:lnTo>
                    <a:pt x="987" y="0"/>
                  </a:lnTo>
                  <a:lnTo>
                    <a:pt x="891" y="144"/>
                  </a:lnTo>
                  <a:lnTo>
                    <a:pt x="951" y="144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96040" y="2735640"/>
              <a:ext cx="398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73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0280" y="4276440"/>
              <a:ext cx="64980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E  O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882080" y="2605320"/>
              <a:ext cx="24012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74800" y="3458880"/>
              <a:ext cx="270720" cy="21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O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3160" y="2590560"/>
              <a:ext cx="3164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8880" y="4225680"/>
              <a:ext cx="438480" cy="24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S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88920" y="228528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988920" y="324828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015200" y="385488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45840" y="300708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740600" y="300708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55120" y="2169720"/>
              <a:ext cx="1998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9840" y="3172680"/>
              <a:ext cx="19944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～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676520" y="54864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单片机控制三相步进电机原理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3.4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软件设计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主机软件设计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根据系统从机数量以及对温度控制响应实时性的要求，采取不同的时间间隔扫描各从机，读取各温度测控点的温度信息或发送控制指令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主机系统软件设计主要包括键处理模块、显示管理模块、通信读数据模块、通信写指令模块、故障处理模块等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Arial Narrow"/>
              <a:ea typeface="宋体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楷体_GB2312"/>
              </a:rPr>
              <a:t>．从机软件设计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从机主要接收主机指令，完成主机规定的温度控制及相关操作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从机也配有键盘，允许用户现场控制温度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从机软件设计也包括键处理模块、温度数据采集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/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模块、显示模块、通信模块、输出管理模块、故障处理模块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8" name=""/>
          <p:cNvGrpSpPr/>
          <p:nvPr/>
        </p:nvGrpSpPr>
        <p:grpSpPr>
          <a:xfrm>
            <a:off x="762120" y="380880"/>
            <a:ext cx="7238520" cy="6095880"/>
            <a:chOff x="762120" y="380880"/>
            <a:chExt cx="7238520" cy="6095880"/>
          </a:xfrm>
        </p:grpSpPr>
        <p:sp>
          <p:nvSpPr>
            <p:cNvPr id="1639" name=""/>
            <p:cNvSpPr/>
            <p:nvPr/>
          </p:nvSpPr>
          <p:spPr>
            <a:xfrm>
              <a:off x="762120" y="6468480"/>
              <a:ext cx="38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V="1">
              <a:off x="762120" y="3073320"/>
              <a:ext cx="0" cy="339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516120" y="1986480"/>
              <a:ext cx="2352960" cy="4622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通讯正常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692600" y="1729440"/>
              <a:ext cx="0" cy="28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866200" y="2225520"/>
              <a:ext cx="30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689360" y="3751560"/>
              <a:ext cx="396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935320" y="2058480"/>
              <a:ext cx="212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73840" y="380880"/>
              <a:ext cx="1037520" cy="28764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开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31880" y="3289320"/>
              <a:ext cx="2521440" cy="4622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Flag=1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829400" y="2473200"/>
              <a:ext cx="20700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944520" y="2706120"/>
              <a:ext cx="1496160" cy="27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产生故障消息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467880" y="4006080"/>
              <a:ext cx="2449440" cy="306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Flag=0</a:t>
              </a:r>
              <a:r>
                <a:rPr b="0" lang="en-US" sz="1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62120" y="3073320"/>
              <a:ext cx="392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648960" y="940680"/>
              <a:ext cx="2087280" cy="26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系统初始化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92600" y="680400"/>
              <a:ext cx="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648960" y="1464840"/>
              <a:ext cx="2087280" cy="26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联络各从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692600" y="1208160"/>
              <a:ext cx="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167880" y="222552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692600" y="2438640"/>
              <a:ext cx="0" cy="25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4689360" y="2988720"/>
              <a:ext cx="288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3438720" y="4559400"/>
              <a:ext cx="2521440" cy="46224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=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？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698720" y="4323240"/>
              <a:ext cx="1800" cy="24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881000" y="5349240"/>
              <a:ext cx="538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716720" y="5030640"/>
              <a:ext cx="72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456880" y="5360400"/>
              <a:ext cx="108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3555360" y="5359320"/>
              <a:ext cx="1080" cy="31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870920" y="5349240"/>
              <a:ext cx="720" cy="3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110960" y="5677920"/>
              <a:ext cx="1496160" cy="27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键处理模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812320" y="5688360"/>
              <a:ext cx="1495800" cy="27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显示模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718880" y="5659200"/>
              <a:ext cx="1496160" cy="27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通讯管理模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6504480" y="5659200"/>
              <a:ext cx="1496160" cy="27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故障处理模块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4561920" y="6158520"/>
              <a:ext cx="1080" cy="31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V="1">
              <a:off x="1846080" y="5945040"/>
              <a:ext cx="0" cy="19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846800" y="6148440"/>
              <a:ext cx="54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33240" y="5112720"/>
              <a:ext cx="98964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4972320" y="5112720"/>
              <a:ext cx="9892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=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6842520" y="5112720"/>
              <a:ext cx="9892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=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2957040" y="5112720"/>
              <a:ext cx="9892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T20ms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4689360" y="307332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3556440" y="5961960"/>
              <a:ext cx="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V="1">
              <a:off x="5478120" y="5936760"/>
              <a:ext cx="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V="1">
              <a:off x="7251480" y="5928120"/>
              <a:ext cx="0" cy="20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250760" y="5360400"/>
              <a:ext cx="720" cy="3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996280" y="3531600"/>
              <a:ext cx="47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4794120" y="3804120"/>
              <a:ext cx="237240" cy="17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294720" y="3379320"/>
              <a:ext cx="22212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985120" y="3161520"/>
              <a:ext cx="16689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V="1">
              <a:off x="2996280" y="3161160"/>
              <a:ext cx="0" cy="36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7" name=""/>
          <p:cNvSpPr/>
          <p:nvPr/>
        </p:nvSpPr>
        <p:spPr>
          <a:xfrm>
            <a:off x="8232840" y="914400"/>
            <a:ext cx="5461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6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主机主程序流程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以下是利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L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进行数据采集的子程序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L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引脚图及用法见从机系统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-1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该型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公司近年推出的新型两通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位逐次逼近型转换器，允许差分输入方式工作。利用单片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/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口线进行数据的传输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LC083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型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/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器数据采集参考程序清单如下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ollectA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SW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PUS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CC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R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#08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计数初值，接收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位数据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LOAD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时钟信号低电平，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脉冲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启动信号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产生时钟信号高电平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L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脉冲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L=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单通道输入方式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脉冲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D=0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选择通道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第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个脉冲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/>
          </p:nvPr>
        </p:nvSpPr>
        <p:spPr>
          <a:xfrm>
            <a:off x="685440" y="45720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读取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LC083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数据输出线上数据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JNZ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eratur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保存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D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转换结果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B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BAC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W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6532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cc"/>
                </a:solidFill>
                <a:latin typeface="Arial Narrow"/>
                <a:ea typeface="宋体"/>
              </a:rPr>
              <a:t>THANK YOU VERY MUCH </a:t>
            </a:r>
            <a:r>
              <a:rPr b="1" lang="en-US" sz="4000" spc="-1" strike="noStrike">
                <a:solidFill>
                  <a:srgbClr val="9900cc"/>
                </a:solidFill>
                <a:latin typeface="Arial Narrow"/>
                <a:ea typeface="宋体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1030320" y="2633760"/>
            <a:ext cx="715176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ctr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  <a:ea typeface="宋体"/>
              </a:rPr>
              <a:t>本章到此结束，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ctr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 Narrow"/>
                <a:ea typeface="宋体"/>
              </a:rPr>
              <a:t>谢谢您的光临！</a:t>
            </a:r>
            <a:endParaRPr b="1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8" name="">
            <a:hlinkClick r:id="" action="ppaction://hlinkshowjump?jump=endshow"/>
          </p:cNvPr>
          <p:cNvSpPr/>
          <p:nvPr/>
        </p:nvSpPr>
        <p:spPr>
          <a:xfrm>
            <a:off x="5562720" y="638280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>
            <a:hlinkClick r:id="rId1" action="ppaction://hlinksldjump"/>
          </p:cNvPr>
          <p:cNvSpPr/>
          <p:nvPr/>
        </p:nvSpPr>
        <p:spPr>
          <a:xfrm>
            <a:off x="7010280" y="6382800"/>
            <a:ext cx="173052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章首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1.1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控制原理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三相步进电机的通电方式有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三相三拍通电方式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→B→C→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三相双三拍通电方式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B→BC→CA→AB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三相六拍通电方式：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→AB→B→BC→C→C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按以上顺序通电，步进电机正转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要使电机反转，将上述步进电机各相绕组的通电相序反过来即可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如三相三拍反转的通电方式为：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A→C→B→ 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宋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905120" y="515880"/>
            <a:ext cx="4701600" cy="5732280"/>
            <a:chOff x="1905120" y="515880"/>
            <a:chExt cx="4701600" cy="5732280"/>
          </a:xfrm>
        </p:grpSpPr>
        <p:grpSp>
          <p:nvGrpSpPr>
            <p:cNvPr id="260" name=""/>
            <p:cNvGrpSpPr/>
            <p:nvPr/>
          </p:nvGrpSpPr>
          <p:grpSpPr>
            <a:xfrm>
              <a:off x="1910880" y="520560"/>
              <a:ext cx="4688280" cy="5721840"/>
              <a:chOff x="1910880" y="520560"/>
              <a:chExt cx="4688280" cy="572184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1910880" y="520560"/>
                <a:ext cx="1655640" cy="633240"/>
                <a:chOff x="1910880" y="520560"/>
                <a:chExt cx="1655640" cy="6332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999800" y="520560"/>
                  <a:ext cx="14778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节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  </a:t>
                  </a: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拍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1910880" y="520560"/>
                  <a:ext cx="165564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3566880" y="520560"/>
                <a:ext cx="975600" cy="1267200"/>
                <a:chOff x="3566880" y="520560"/>
                <a:chExt cx="975600" cy="126720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3655080" y="520560"/>
                  <a:ext cx="798840" cy="12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通电顺序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566880" y="520560"/>
                  <a:ext cx="975600" cy="1267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543200" y="520560"/>
                <a:ext cx="2055960" cy="633240"/>
                <a:chOff x="4543200" y="520560"/>
                <a:chExt cx="2055960" cy="633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632120" y="520560"/>
                  <a:ext cx="187848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控制模型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43200" y="520560"/>
                  <a:ext cx="205596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1910880" y="1154160"/>
                <a:ext cx="829800" cy="633240"/>
                <a:chOff x="1910880" y="1154160"/>
                <a:chExt cx="829800" cy="6332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1999800" y="1154160"/>
                  <a:ext cx="65196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正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1910880" y="1154160"/>
                  <a:ext cx="82980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741040" y="1154160"/>
                <a:ext cx="825480" cy="633240"/>
                <a:chOff x="2741040" y="1154160"/>
                <a:chExt cx="825480" cy="6332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829240" y="1154160"/>
                  <a:ext cx="64800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反转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741040" y="1154160"/>
                  <a:ext cx="82548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4543200" y="1154160"/>
                <a:ext cx="1006920" cy="633240"/>
                <a:chOff x="4543200" y="1154160"/>
                <a:chExt cx="1006920" cy="6332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4632120" y="1154160"/>
                  <a:ext cx="82944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二进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543200" y="1154160"/>
                  <a:ext cx="100692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550840" y="1154160"/>
                <a:ext cx="1048320" cy="633240"/>
                <a:chOff x="5550840" y="1154160"/>
                <a:chExt cx="1048320" cy="6332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639760" y="1154160"/>
                  <a:ext cx="870840" cy="63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Arial"/>
                      <a:ea typeface="黑体"/>
                    </a:rPr>
                    <a:t>十六进制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550840" y="1154160"/>
                  <a:ext cx="1048320" cy="63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1910880" y="1788120"/>
                <a:ext cx="829800" cy="741960"/>
                <a:chOff x="1910880" y="1788120"/>
                <a:chExt cx="829800" cy="7419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1999800" y="1788120"/>
                  <a:ext cx="65196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1910880" y="1788120"/>
                  <a:ext cx="8298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2741040" y="1788120"/>
                <a:ext cx="825480" cy="741960"/>
                <a:chOff x="2741040" y="1788120"/>
                <a:chExt cx="825480" cy="741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2829240" y="1788120"/>
                  <a:ext cx="64800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2741040" y="1788120"/>
                  <a:ext cx="82548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3566880" y="1788120"/>
                <a:ext cx="975600" cy="741960"/>
                <a:chOff x="3566880" y="1788120"/>
                <a:chExt cx="975600" cy="741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3655080" y="1788120"/>
                  <a:ext cx="798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3566880" y="1788120"/>
                  <a:ext cx="9756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543200" y="1788120"/>
                <a:ext cx="1006920" cy="741960"/>
                <a:chOff x="4543200" y="1788120"/>
                <a:chExt cx="1006920" cy="741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632120" y="1788120"/>
                  <a:ext cx="8294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0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543200" y="1788120"/>
                  <a:ext cx="10069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550840" y="1788120"/>
                <a:ext cx="1048320" cy="741960"/>
                <a:chOff x="5550840" y="1788120"/>
                <a:chExt cx="1048320" cy="741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639760" y="1788120"/>
                  <a:ext cx="870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550840" y="1788120"/>
                  <a:ext cx="10483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1910880" y="2530800"/>
                <a:ext cx="829800" cy="741600"/>
                <a:chOff x="1910880" y="2530800"/>
                <a:chExt cx="829800" cy="74160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999800" y="2530800"/>
                  <a:ext cx="65196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910880" y="2530800"/>
                  <a:ext cx="82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741040" y="2530800"/>
                <a:ext cx="825480" cy="741600"/>
                <a:chOff x="2741040" y="2530800"/>
                <a:chExt cx="825480" cy="7416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29240" y="2530800"/>
                  <a:ext cx="64800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741040" y="2530800"/>
                  <a:ext cx="8254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566880" y="2530800"/>
                <a:ext cx="975600" cy="741600"/>
                <a:chOff x="3566880" y="2530800"/>
                <a:chExt cx="975600" cy="74160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655080" y="2530800"/>
                  <a:ext cx="798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566880" y="2530800"/>
                  <a:ext cx="9756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543200" y="2530800"/>
                <a:ext cx="1006920" cy="741600"/>
                <a:chOff x="4543200" y="2530800"/>
                <a:chExt cx="1006920" cy="74160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632120" y="2530800"/>
                  <a:ext cx="8294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01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543200" y="2530800"/>
                  <a:ext cx="10069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550840" y="2530800"/>
                <a:ext cx="1048320" cy="741600"/>
                <a:chOff x="5550840" y="2530800"/>
                <a:chExt cx="1048320" cy="74160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639760" y="2530800"/>
                  <a:ext cx="870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550840" y="2530800"/>
                  <a:ext cx="10483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910880" y="3273120"/>
                <a:ext cx="829800" cy="741960"/>
                <a:chOff x="1910880" y="3273120"/>
                <a:chExt cx="829800" cy="7419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99800" y="3273120"/>
                  <a:ext cx="65196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910880" y="3273120"/>
                  <a:ext cx="8298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41040" y="3273120"/>
                <a:ext cx="825480" cy="741960"/>
                <a:chOff x="2741040" y="3273120"/>
                <a:chExt cx="825480" cy="741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829240" y="3273120"/>
                  <a:ext cx="64800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2741040" y="3273120"/>
                  <a:ext cx="82548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3566880" y="3273120"/>
                <a:ext cx="975600" cy="741960"/>
                <a:chOff x="3566880" y="3273120"/>
                <a:chExt cx="975600" cy="741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3655080" y="3273120"/>
                  <a:ext cx="798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566880" y="3273120"/>
                  <a:ext cx="9756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4543200" y="3273120"/>
                <a:ext cx="1006920" cy="741960"/>
                <a:chOff x="4543200" y="3273120"/>
                <a:chExt cx="1006920" cy="74196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4632120" y="3273120"/>
                  <a:ext cx="8294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0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4543200" y="3273120"/>
                  <a:ext cx="10069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550840" y="3273120"/>
                <a:ext cx="1048320" cy="741960"/>
                <a:chOff x="5550840" y="3273120"/>
                <a:chExt cx="1048320" cy="74196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639760" y="3273120"/>
                  <a:ext cx="870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550840" y="3273120"/>
                  <a:ext cx="10483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1910880" y="4015800"/>
                <a:ext cx="829800" cy="741600"/>
                <a:chOff x="1910880" y="4015800"/>
                <a:chExt cx="829800" cy="7416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1999800" y="4015800"/>
                  <a:ext cx="65196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1910880" y="4015800"/>
                  <a:ext cx="82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2741040" y="4015800"/>
                <a:ext cx="825480" cy="741600"/>
                <a:chOff x="2741040" y="4015800"/>
                <a:chExt cx="825480" cy="7416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2829240" y="4015800"/>
                  <a:ext cx="64800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2741040" y="4015800"/>
                  <a:ext cx="8254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566880" y="4015800"/>
                <a:ext cx="975600" cy="741600"/>
                <a:chOff x="3566880" y="4015800"/>
                <a:chExt cx="975600" cy="74160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655080" y="4015800"/>
                  <a:ext cx="798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566880" y="4015800"/>
                  <a:ext cx="9756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4543200" y="4015800"/>
                <a:ext cx="1006920" cy="741600"/>
                <a:chOff x="4543200" y="4015800"/>
                <a:chExt cx="1006920" cy="74160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4632120" y="4015800"/>
                  <a:ext cx="8294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11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4543200" y="4015800"/>
                  <a:ext cx="10069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550840" y="4015800"/>
                <a:ext cx="1048320" cy="741600"/>
                <a:chOff x="5550840" y="4015800"/>
                <a:chExt cx="1048320" cy="74160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39760" y="4015800"/>
                  <a:ext cx="870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550840" y="4015800"/>
                  <a:ext cx="10483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1910880" y="4758120"/>
                <a:ext cx="829800" cy="741960"/>
                <a:chOff x="1910880" y="4758120"/>
                <a:chExt cx="829800" cy="741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1999800" y="4758120"/>
                  <a:ext cx="65196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1910880" y="4758120"/>
                  <a:ext cx="8298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2741040" y="4758120"/>
                <a:ext cx="825480" cy="741960"/>
                <a:chOff x="2741040" y="4758120"/>
                <a:chExt cx="825480" cy="7419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2829240" y="4758120"/>
                  <a:ext cx="64800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2741040" y="4758120"/>
                  <a:ext cx="82548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3566880" y="4758120"/>
                <a:ext cx="975600" cy="741960"/>
                <a:chOff x="3566880" y="4758120"/>
                <a:chExt cx="975600" cy="741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655080" y="4758120"/>
                  <a:ext cx="798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566880" y="4758120"/>
                  <a:ext cx="97560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4543200" y="4758120"/>
                <a:ext cx="1006920" cy="741960"/>
                <a:chOff x="4543200" y="4758120"/>
                <a:chExt cx="1006920" cy="7419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4632120" y="4758120"/>
                  <a:ext cx="8294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1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4543200" y="4758120"/>
                  <a:ext cx="10069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550840" y="4758120"/>
                <a:ext cx="1048320" cy="741960"/>
                <a:chOff x="5550840" y="4758120"/>
                <a:chExt cx="1048320" cy="7419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639760" y="4758120"/>
                  <a:ext cx="870840" cy="74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550840" y="4758120"/>
                  <a:ext cx="1048320" cy="74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1910880" y="5500800"/>
                <a:ext cx="829800" cy="741600"/>
                <a:chOff x="1910880" y="5500800"/>
                <a:chExt cx="829800" cy="74160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1999800" y="5500800"/>
                  <a:ext cx="65196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6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1910880" y="5500800"/>
                  <a:ext cx="8298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741040" y="5500800"/>
                <a:ext cx="825480" cy="741600"/>
                <a:chOff x="2741040" y="5500800"/>
                <a:chExt cx="825480" cy="74160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829240" y="5500800"/>
                  <a:ext cx="64800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741040" y="5500800"/>
                  <a:ext cx="82548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566880" y="5500800"/>
                <a:ext cx="975600" cy="741600"/>
                <a:chOff x="3566880" y="5500800"/>
                <a:chExt cx="975600" cy="7416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655080" y="5500800"/>
                  <a:ext cx="798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66880" y="5500800"/>
                  <a:ext cx="97560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543200" y="5500800"/>
                <a:ext cx="1006920" cy="741600"/>
                <a:chOff x="4543200" y="5500800"/>
                <a:chExt cx="1006920" cy="741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632120" y="5500800"/>
                  <a:ext cx="8294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00010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43200" y="5500800"/>
                  <a:ext cx="10069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550840" y="5500800"/>
                <a:ext cx="1048320" cy="741600"/>
                <a:chOff x="5550840" y="5500800"/>
                <a:chExt cx="1048320" cy="741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639760" y="5500800"/>
                  <a:ext cx="870840" cy="74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550840" y="5500800"/>
                  <a:ext cx="1048320" cy="74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2" name=""/>
            <p:cNvSpPr/>
            <p:nvPr/>
          </p:nvSpPr>
          <p:spPr>
            <a:xfrm>
              <a:off x="1905120" y="515880"/>
              <a:ext cx="4701600" cy="57322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6876360" y="914400"/>
            <a:ext cx="9118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1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三相六拍步进电机控制模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1.2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控制程序设计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步进电机控制的任务就是：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旋转方向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按顺序送出控制脉冲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判断脉冲是否送完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79360" indent="-279360" algn="just">
              <a:lnSpc>
                <a:spcPct val="120000"/>
              </a:lnSpc>
              <a:buClr>
                <a:srgbClr val="d6009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正反转控制模型数据的存放单元见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-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其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6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中存放模型结束标志，程序流程如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-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所示。</a:t>
            </a:r>
            <a:endParaRPr b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438280" y="68580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2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正转控制模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1135080" y="1219320"/>
            <a:ext cx="6332040" cy="1675800"/>
            <a:chOff x="1135080" y="1219320"/>
            <a:chExt cx="6332040" cy="1675800"/>
          </a:xfrm>
        </p:grpSpPr>
        <p:grpSp>
          <p:nvGrpSpPr>
            <p:cNvPr id="379" name=""/>
            <p:cNvGrpSpPr/>
            <p:nvPr/>
          </p:nvGrpSpPr>
          <p:grpSpPr>
            <a:xfrm>
              <a:off x="1140840" y="1224720"/>
              <a:ext cx="6319440" cy="1663920"/>
              <a:chOff x="1140840" y="1224720"/>
              <a:chExt cx="6319440" cy="1663920"/>
            </a:xfrm>
          </p:grpSpPr>
          <p:grpSp>
            <p:nvGrpSpPr>
              <p:cNvPr id="380" name=""/>
              <p:cNvGrpSpPr/>
              <p:nvPr/>
            </p:nvGrpSpPr>
            <p:grpSpPr>
              <a:xfrm>
                <a:off x="1140840" y="1224720"/>
                <a:ext cx="1255680" cy="831600"/>
                <a:chOff x="1140840" y="1224720"/>
                <a:chExt cx="1255680" cy="83160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227960" y="1224720"/>
                  <a:ext cx="108108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内存字节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1140840" y="1224720"/>
                  <a:ext cx="12556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3" name=""/>
              <p:cNvGrpSpPr/>
              <p:nvPr/>
            </p:nvGrpSpPr>
            <p:grpSpPr>
              <a:xfrm>
                <a:off x="2396880" y="1224720"/>
                <a:ext cx="722880" cy="831600"/>
                <a:chOff x="2396880" y="1224720"/>
                <a:chExt cx="722880" cy="831600"/>
              </a:xfrm>
            </p:grpSpPr>
            <p:sp>
              <p:nvSpPr>
                <p:cNvPr id="384" name=""/>
                <p:cNvSpPr/>
                <p:nvPr/>
              </p:nvSpPr>
              <p:spPr>
                <a:xfrm>
                  <a:off x="2484000" y="1224720"/>
                  <a:ext cx="54900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2396880" y="1224720"/>
                  <a:ext cx="7228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3120120" y="1224720"/>
                <a:ext cx="723240" cy="831600"/>
                <a:chOff x="3120120" y="1224720"/>
                <a:chExt cx="723240" cy="83160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3207240" y="1224720"/>
                  <a:ext cx="54864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3120120" y="1224720"/>
                  <a:ext cx="72324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3844080" y="1224720"/>
                <a:ext cx="722880" cy="831600"/>
                <a:chOff x="3844080" y="1224720"/>
                <a:chExt cx="722880" cy="83160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3930840" y="1224720"/>
                  <a:ext cx="54900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3844080" y="1224720"/>
                  <a:ext cx="7228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4567320" y="1224720"/>
                <a:ext cx="722880" cy="831600"/>
                <a:chOff x="4567320" y="1224720"/>
                <a:chExt cx="722880" cy="83160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4654080" y="1224720"/>
                  <a:ext cx="54900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4567320" y="1224720"/>
                  <a:ext cx="7228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5290560" y="1224720"/>
                <a:ext cx="722880" cy="831600"/>
                <a:chOff x="5290560" y="1224720"/>
                <a:chExt cx="722880" cy="83160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5377680" y="1224720"/>
                  <a:ext cx="54900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4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5290560" y="1224720"/>
                  <a:ext cx="7228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013800" y="1224720"/>
                <a:ext cx="723240" cy="831600"/>
                <a:chOff x="6013800" y="1224720"/>
                <a:chExt cx="723240" cy="83160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100920" y="1224720"/>
                  <a:ext cx="54864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013800" y="1224720"/>
                  <a:ext cx="72324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737400" y="1224720"/>
                <a:ext cx="722880" cy="831600"/>
                <a:chOff x="6737400" y="1224720"/>
                <a:chExt cx="722880" cy="83160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824160" y="1224720"/>
                  <a:ext cx="549000" cy="83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6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6737400" y="1224720"/>
                  <a:ext cx="722880" cy="831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1140840" y="2056680"/>
                <a:ext cx="1255680" cy="831960"/>
                <a:chOff x="1140840" y="2056680"/>
                <a:chExt cx="1255680" cy="83196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1227960" y="2056680"/>
                  <a:ext cx="108108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制模型数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1140840" y="2056680"/>
                  <a:ext cx="12556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7" name=""/>
              <p:cNvGrpSpPr/>
              <p:nvPr/>
            </p:nvGrpSpPr>
            <p:grpSpPr>
              <a:xfrm>
                <a:off x="2396880" y="2056680"/>
                <a:ext cx="722880" cy="831960"/>
                <a:chOff x="2396880" y="2056680"/>
                <a:chExt cx="722880" cy="83196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2484000" y="2056680"/>
                  <a:ext cx="5490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396880" y="2056680"/>
                  <a:ext cx="7228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0" name=""/>
              <p:cNvGrpSpPr/>
              <p:nvPr/>
            </p:nvGrpSpPr>
            <p:grpSpPr>
              <a:xfrm>
                <a:off x="3120120" y="2056680"/>
                <a:ext cx="723240" cy="831960"/>
                <a:chOff x="3120120" y="2056680"/>
                <a:chExt cx="723240" cy="831960"/>
              </a:xfrm>
            </p:grpSpPr>
            <p:sp>
              <p:nvSpPr>
                <p:cNvPr id="411" name=""/>
                <p:cNvSpPr/>
                <p:nvPr/>
              </p:nvSpPr>
              <p:spPr>
                <a:xfrm>
                  <a:off x="3207240" y="2056680"/>
                  <a:ext cx="54864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120120" y="2056680"/>
                  <a:ext cx="7232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844080" y="2056680"/>
                <a:ext cx="722880" cy="831960"/>
                <a:chOff x="3844080" y="2056680"/>
                <a:chExt cx="722880" cy="83196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930840" y="2056680"/>
                  <a:ext cx="5490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844080" y="2056680"/>
                  <a:ext cx="7228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6" name=""/>
              <p:cNvGrpSpPr/>
              <p:nvPr/>
            </p:nvGrpSpPr>
            <p:grpSpPr>
              <a:xfrm>
                <a:off x="4567320" y="2056680"/>
                <a:ext cx="722880" cy="831960"/>
                <a:chOff x="4567320" y="2056680"/>
                <a:chExt cx="722880" cy="831960"/>
              </a:xfrm>
            </p:grpSpPr>
            <p:sp>
              <p:nvSpPr>
                <p:cNvPr id="417" name=""/>
                <p:cNvSpPr/>
                <p:nvPr/>
              </p:nvSpPr>
              <p:spPr>
                <a:xfrm>
                  <a:off x="4654080" y="2056680"/>
                  <a:ext cx="5490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6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4567320" y="2056680"/>
                  <a:ext cx="7228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9" name=""/>
              <p:cNvGrpSpPr/>
              <p:nvPr/>
            </p:nvGrpSpPr>
            <p:grpSpPr>
              <a:xfrm>
                <a:off x="5290560" y="2056680"/>
                <a:ext cx="722880" cy="831960"/>
                <a:chOff x="5290560" y="2056680"/>
                <a:chExt cx="722880" cy="83196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5377680" y="2056680"/>
                  <a:ext cx="5490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4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5290560" y="2056680"/>
                  <a:ext cx="7228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2" name=""/>
              <p:cNvGrpSpPr/>
              <p:nvPr/>
            </p:nvGrpSpPr>
            <p:grpSpPr>
              <a:xfrm>
                <a:off x="6013800" y="2056680"/>
                <a:ext cx="723240" cy="831960"/>
                <a:chOff x="6013800" y="2056680"/>
                <a:chExt cx="723240" cy="831960"/>
              </a:xfrm>
            </p:grpSpPr>
            <p:sp>
              <p:nvSpPr>
                <p:cNvPr id="423" name=""/>
                <p:cNvSpPr/>
                <p:nvPr/>
              </p:nvSpPr>
              <p:spPr>
                <a:xfrm>
                  <a:off x="6100920" y="2056680"/>
                  <a:ext cx="54864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4" name=""/>
                <p:cNvSpPr/>
                <p:nvPr/>
              </p:nvSpPr>
              <p:spPr>
                <a:xfrm>
                  <a:off x="6013800" y="2056680"/>
                  <a:ext cx="72324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5" name=""/>
              <p:cNvGrpSpPr/>
              <p:nvPr/>
            </p:nvGrpSpPr>
            <p:grpSpPr>
              <a:xfrm>
                <a:off x="6737400" y="2056680"/>
                <a:ext cx="722880" cy="831960"/>
                <a:chOff x="6737400" y="2056680"/>
                <a:chExt cx="722880" cy="831960"/>
              </a:xfrm>
            </p:grpSpPr>
            <p:sp>
              <p:nvSpPr>
                <p:cNvPr id="426" name=""/>
                <p:cNvSpPr/>
                <p:nvPr/>
              </p:nvSpPr>
              <p:spPr>
                <a:xfrm>
                  <a:off x="6824160" y="2056680"/>
                  <a:ext cx="549000" cy="83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6737400" y="2056680"/>
                  <a:ext cx="722880" cy="83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8" name=""/>
            <p:cNvSpPr/>
            <p:nvPr/>
          </p:nvSpPr>
          <p:spPr>
            <a:xfrm>
              <a:off x="1135080" y="1219320"/>
              <a:ext cx="6332040" cy="16758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2362320" y="33526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表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3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黑体"/>
              </a:rPr>
              <a:t>反转控制模型数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143000" y="4038480"/>
            <a:ext cx="6476760" cy="1752480"/>
            <a:chOff x="1143000" y="4038480"/>
            <a:chExt cx="6476760" cy="1752480"/>
          </a:xfrm>
        </p:grpSpPr>
        <p:grpSp>
          <p:nvGrpSpPr>
            <p:cNvPr id="431" name=""/>
            <p:cNvGrpSpPr/>
            <p:nvPr/>
          </p:nvGrpSpPr>
          <p:grpSpPr>
            <a:xfrm>
              <a:off x="1148760" y="4044240"/>
              <a:ext cx="6463440" cy="1740240"/>
              <a:chOff x="1148760" y="4044240"/>
              <a:chExt cx="6463440" cy="1740240"/>
            </a:xfrm>
          </p:grpSpPr>
          <p:grpSp>
            <p:nvGrpSpPr>
              <p:cNvPr id="432" name=""/>
              <p:cNvGrpSpPr/>
              <p:nvPr/>
            </p:nvGrpSpPr>
            <p:grpSpPr>
              <a:xfrm>
                <a:off x="1148760" y="4044240"/>
                <a:ext cx="1284480" cy="869760"/>
                <a:chOff x="1148760" y="4044240"/>
                <a:chExt cx="1284480" cy="86976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1238040" y="4044240"/>
                  <a:ext cx="110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内存字节地址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1148760" y="4044240"/>
                  <a:ext cx="12844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2433600" y="4044240"/>
                <a:ext cx="739080" cy="869760"/>
                <a:chOff x="2433600" y="4044240"/>
                <a:chExt cx="739080" cy="8697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252252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7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2433600" y="4044240"/>
                  <a:ext cx="7390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173400" y="4044240"/>
                <a:ext cx="739800" cy="869760"/>
                <a:chOff x="3173400" y="4044240"/>
                <a:chExt cx="739800" cy="86976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26232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8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173400" y="4044240"/>
                  <a:ext cx="73980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3913560" y="4044240"/>
                <a:ext cx="739080" cy="869760"/>
                <a:chOff x="3913560" y="4044240"/>
                <a:chExt cx="739080" cy="86976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400212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9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3913560" y="4044240"/>
                  <a:ext cx="7390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4653360" y="4044240"/>
                <a:ext cx="739080" cy="869760"/>
                <a:chOff x="4653360" y="4044240"/>
                <a:chExt cx="739080" cy="8697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474192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A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4653360" y="4044240"/>
                  <a:ext cx="7390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5393160" y="4044240"/>
                <a:ext cx="739080" cy="869760"/>
                <a:chOff x="5393160" y="4044240"/>
                <a:chExt cx="739080" cy="86976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548208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B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5393160" y="4044240"/>
                  <a:ext cx="7390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132960" y="4044240"/>
                <a:ext cx="739800" cy="869760"/>
                <a:chOff x="6132960" y="4044240"/>
                <a:chExt cx="739800" cy="86976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22188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132960" y="4044240"/>
                  <a:ext cx="73980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873120" y="4044240"/>
                <a:ext cx="739080" cy="869760"/>
                <a:chOff x="6873120" y="4044240"/>
                <a:chExt cx="739080" cy="86976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61680" y="4044240"/>
                  <a:ext cx="56124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D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873120" y="4044240"/>
                  <a:ext cx="7390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1148760" y="4914360"/>
                <a:ext cx="1284480" cy="870120"/>
                <a:chOff x="1148760" y="4914360"/>
                <a:chExt cx="1284480" cy="87012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1238040" y="4914360"/>
                  <a:ext cx="110592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控制模型数据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1148760" y="4914360"/>
                  <a:ext cx="12844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2433600" y="4914360"/>
                <a:ext cx="739080" cy="870120"/>
                <a:chOff x="2433600" y="4914360"/>
                <a:chExt cx="739080" cy="87012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252252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1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2433600" y="4914360"/>
                  <a:ext cx="7390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3173400" y="4914360"/>
                <a:ext cx="739800" cy="870120"/>
                <a:chOff x="3173400" y="4914360"/>
                <a:chExt cx="739800" cy="87012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326232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5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3173400" y="4914360"/>
                  <a:ext cx="7398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3913560" y="4914360"/>
                <a:ext cx="739080" cy="870120"/>
                <a:chOff x="3913560" y="4914360"/>
                <a:chExt cx="739080" cy="87012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400212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4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913560" y="4914360"/>
                  <a:ext cx="7390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4653360" y="4914360"/>
                <a:ext cx="739080" cy="870120"/>
                <a:chOff x="4653360" y="4914360"/>
                <a:chExt cx="739080" cy="870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474192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6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653360" y="4914360"/>
                  <a:ext cx="7390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5393160" y="4914360"/>
                <a:ext cx="739080" cy="870120"/>
                <a:chOff x="5393160" y="4914360"/>
                <a:chExt cx="739080" cy="87012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548208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5393160" y="4914360"/>
                  <a:ext cx="7390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6132960" y="4914360"/>
                <a:ext cx="739800" cy="870120"/>
                <a:chOff x="6132960" y="4914360"/>
                <a:chExt cx="739800" cy="870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622188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3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6132960" y="4914360"/>
                  <a:ext cx="73980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7" name=""/>
              <p:cNvGrpSpPr/>
              <p:nvPr/>
            </p:nvGrpSpPr>
            <p:grpSpPr>
              <a:xfrm>
                <a:off x="6873120" y="4914360"/>
                <a:ext cx="739080" cy="870120"/>
                <a:chOff x="6873120" y="4914360"/>
                <a:chExt cx="739080" cy="870120"/>
              </a:xfrm>
            </p:grpSpPr>
            <p:sp>
              <p:nvSpPr>
                <p:cNvPr id="478" name=""/>
                <p:cNvSpPr/>
                <p:nvPr/>
              </p:nvSpPr>
              <p:spPr>
                <a:xfrm>
                  <a:off x="6961680" y="4914360"/>
                  <a:ext cx="561240" cy="87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00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spcBef>
                      <a:spcPts val="67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873120" y="4914360"/>
                  <a:ext cx="739080" cy="870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80" name=""/>
            <p:cNvSpPr/>
            <p:nvPr/>
          </p:nvSpPr>
          <p:spPr>
            <a:xfrm>
              <a:off x="1143000" y="4038480"/>
              <a:ext cx="6476760" cy="1752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"/>
          <p:cNvGrpSpPr/>
          <p:nvPr/>
        </p:nvGrpSpPr>
        <p:grpSpPr>
          <a:xfrm>
            <a:off x="1143000" y="609480"/>
            <a:ext cx="5257440" cy="5257800"/>
            <a:chOff x="1143000" y="609480"/>
            <a:chExt cx="5257440" cy="5257800"/>
          </a:xfrm>
        </p:grpSpPr>
        <p:sp>
          <p:nvSpPr>
            <p:cNvPr id="482" name=""/>
            <p:cNvSpPr/>
            <p:nvPr/>
          </p:nvSpPr>
          <p:spPr>
            <a:xfrm>
              <a:off x="3069360" y="4670640"/>
              <a:ext cx="34920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566600" y="2404800"/>
              <a:ext cx="183384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置反转模型地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577760" y="4002480"/>
              <a:ext cx="174636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恢复模型首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9760" y="609480"/>
              <a:ext cx="139716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保护现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89800" y="1190880"/>
              <a:ext cx="1658880" cy="33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设步长计数器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02320" y="2421720"/>
              <a:ext cx="183384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置正转模型地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02320" y="3004560"/>
              <a:ext cx="183384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输出控制模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481840" y="5544720"/>
              <a:ext cx="989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返回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02320" y="4883400"/>
              <a:ext cx="1833840" cy="33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恢复现场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928520" y="3585960"/>
              <a:ext cx="1979280" cy="398880"/>
            </a:xfrm>
            <a:prstGeom prst="hexagon">
              <a:avLst>
                <a:gd name="adj" fmla="val 12405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03480" y="3619080"/>
              <a:ext cx="16588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是数据结束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870560" y="1773360"/>
              <a:ext cx="2099880" cy="399240"/>
            </a:xfrm>
            <a:prstGeom prst="hexagon">
              <a:avLst>
                <a:gd name="adj" fmla="val 131492"/>
                <a:gd name="vf" fmla="val 1154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1964880" y="4235400"/>
              <a:ext cx="1905840" cy="398880"/>
              <a:chOff x="1964880" y="4235400"/>
              <a:chExt cx="1905840" cy="398880"/>
            </a:xfrm>
          </p:grpSpPr>
          <p:sp>
            <p:nvSpPr>
              <p:cNvPr id="495" name=""/>
              <p:cNvSpPr/>
              <p:nvPr/>
            </p:nvSpPr>
            <p:spPr>
              <a:xfrm>
                <a:off x="1964880" y="4235400"/>
                <a:ext cx="1905840" cy="398880"/>
              </a:xfrm>
              <a:prstGeom prst="hexagon">
                <a:avLst>
                  <a:gd name="adj" fmla="val 119449"/>
                  <a:gd name="vf" fmla="val 11547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210040" y="4268520"/>
                <a:ext cx="1478520" cy="29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6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步数为</a:t>
                </a:r>
                <a:r>
                  <a:rPr b="0" lang="zh-CN" sz="16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0?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918520" y="94176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18520" y="15408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18520" y="21729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18520" y="277164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918520" y="33372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918520" y="400248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918520" y="463428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18520" y="5232960"/>
              <a:ext cx="0" cy="23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7320" y="376956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228560" y="4068720"/>
              <a:ext cx="0" cy="36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922840" y="4068720"/>
              <a:ext cx="130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228560" y="4434840"/>
              <a:ext cx="110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334840" y="4335120"/>
              <a:ext cx="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937320" y="1976400"/>
              <a:ext cx="146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92800" y="2738160"/>
              <a:ext cx="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918520" y="2838240"/>
              <a:ext cx="247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34840" y="37695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417640" y="1973160"/>
              <a:ext cx="0" cy="4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278080" y="5480280"/>
              <a:ext cx="1310040" cy="387000"/>
            </a:xfrm>
            <a:prstGeom prst="flowChartTermina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103640" y="3476160"/>
              <a:ext cx="34920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63320" y="1780560"/>
              <a:ext cx="3024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43000" y="4431960"/>
              <a:ext cx="81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43000" y="2835000"/>
              <a:ext cx="0" cy="159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9840" y="2835000"/>
              <a:ext cx="176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420200" y="4244400"/>
              <a:ext cx="302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54240" y="2196000"/>
              <a:ext cx="302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84440" y="3996360"/>
              <a:ext cx="30204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92320" y="1780560"/>
              <a:ext cx="1658880" cy="29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6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转向标志为</a:t>
              </a:r>
              <a:r>
                <a:rPr b="0" lang="zh-CN" sz="1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6708240" y="914400"/>
            <a:ext cx="91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2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程序延时控制程序流程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315200" y="630684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dc0081"/>
                </a:solidFill>
                <a:latin typeface="Times New Roman"/>
                <a:ea typeface="隶书"/>
              </a:rPr>
              <a:t>返回本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30040"/>
            <a:ext cx="8190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10.1.3  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步进电机变速控制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  <a:ea typeface="宋体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528" name=""/>
          <p:cNvGrpSpPr/>
          <p:nvPr/>
        </p:nvGrpSpPr>
        <p:grpSpPr>
          <a:xfrm>
            <a:off x="1676520" y="1447920"/>
            <a:ext cx="5562000" cy="3352320"/>
            <a:chOff x="1676520" y="1447920"/>
            <a:chExt cx="5562000" cy="3352320"/>
          </a:xfrm>
        </p:grpSpPr>
        <p:sp>
          <p:nvSpPr>
            <p:cNvPr id="529" name=""/>
            <p:cNvSpPr/>
            <p:nvPr/>
          </p:nvSpPr>
          <p:spPr>
            <a:xfrm>
              <a:off x="1965600" y="3708360"/>
              <a:ext cx="50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2094480" y="1466280"/>
              <a:ext cx="0" cy="260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" name=""/>
            <p:cNvGrpSpPr/>
            <p:nvPr/>
          </p:nvGrpSpPr>
          <p:grpSpPr>
            <a:xfrm>
              <a:off x="2898360" y="2222280"/>
              <a:ext cx="257040" cy="228240"/>
              <a:chOff x="2898360" y="2222280"/>
              <a:chExt cx="257040" cy="228240"/>
            </a:xfrm>
          </p:grpSpPr>
          <p:sp>
            <p:nvSpPr>
              <p:cNvPr id="532" name=""/>
              <p:cNvSpPr/>
              <p:nvPr/>
            </p:nvSpPr>
            <p:spPr>
              <a:xfrm>
                <a:off x="2898360" y="245052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155400" y="222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476880" y="1994040"/>
              <a:ext cx="170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5" name=""/>
            <p:cNvGrpSpPr/>
            <p:nvPr/>
          </p:nvGrpSpPr>
          <p:grpSpPr>
            <a:xfrm>
              <a:off x="3187440" y="1994040"/>
              <a:ext cx="257040" cy="228240"/>
              <a:chOff x="3187440" y="1994040"/>
              <a:chExt cx="257040" cy="228240"/>
            </a:xfrm>
          </p:grpSpPr>
          <p:sp>
            <p:nvSpPr>
              <p:cNvPr id="536" name=""/>
              <p:cNvSpPr/>
              <p:nvPr/>
            </p:nvSpPr>
            <p:spPr>
              <a:xfrm>
                <a:off x="3187440" y="222228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3444480" y="19940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5213160" y="1994040"/>
              <a:ext cx="257040" cy="228240"/>
              <a:chOff x="5213160" y="1994040"/>
              <a:chExt cx="257040" cy="228240"/>
            </a:xfrm>
          </p:grpSpPr>
          <p:sp>
            <p:nvSpPr>
              <p:cNvPr id="539" name=""/>
              <p:cNvSpPr/>
              <p:nvPr/>
            </p:nvSpPr>
            <p:spPr>
              <a:xfrm>
                <a:off x="5213160" y="222228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213160" y="19940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5470200" y="2222280"/>
              <a:ext cx="257040" cy="228240"/>
              <a:chOff x="5470200" y="2222280"/>
              <a:chExt cx="257040" cy="228240"/>
            </a:xfrm>
          </p:grpSpPr>
          <p:sp>
            <p:nvSpPr>
              <p:cNvPr id="542" name=""/>
              <p:cNvSpPr/>
              <p:nvPr/>
            </p:nvSpPr>
            <p:spPr>
              <a:xfrm>
                <a:off x="5470200" y="245052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470200" y="22222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5727600" y="2450880"/>
              <a:ext cx="257040" cy="228240"/>
              <a:chOff x="5727600" y="2450880"/>
              <a:chExt cx="257040" cy="228240"/>
            </a:xfrm>
          </p:grpSpPr>
          <p:sp>
            <p:nvSpPr>
              <p:cNvPr id="545" name=""/>
              <p:cNvSpPr/>
              <p:nvPr/>
            </p:nvSpPr>
            <p:spPr>
              <a:xfrm>
                <a:off x="5727600" y="267912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727600" y="24508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5985000" y="2679480"/>
              <a:ext cx="257040" cy="228600"/>
              <a:chOff x="5985000" y="2679480"/>
              <a:chExt cx="257040" cy="228600"/>
            </a:xfrm>
          </p:grpSpPr>
          <p:sp>
            <p:nvSpPr>
              <p:cNvPr id="548" name=""/>
              <p:cNvSpPr/>
              <p:nvPr/>
            </p:nvSpPr>
            <p:spPr>
              <a:xfrm>
                <a:off x="5985000" y="290808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985000" y="2679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6242040" y="2908440"/>
              <a:ext cx="257040" cy="228240"/>
              <a:chOff x="6242040" y="2908440"/>
              <a:chExt cx="257040" cy="228240"/>
            </a:xfrm>
          </p:grpSpPr>
          <p:sp>
            <p:nvSpPr>
              <p:cNvPr id="551" name=""/>
              <p:cNvSpPr/>
              <p:nvPr/>
            </p:nvSpPr>
            <p:spPr>
              <a:xfrm>
                <a:off x="6242040" y="313668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242040" y="29084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608560" y="2450880"/>
              <a:ext cx="257040" cy="228240"/>
              <a:chOff x="2608560" y="2450880"/>
              <a:chExt cx="257040" cy="228240"/>
            </a:xfrm>
          </p:grpSpPr>
          <p:sp>
            <p:nvSpPr>
              <p:cNvPr id="554" name=""/>
              <p:cNvSpPr/>
              <p:nvPr/>
            </p:nvSpPr>
            <p:spPr>
              <a:xfrm>
                <a:off x="2608560" y="267912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865600" y="245088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2351520" y="2679480"/>
              <a:ext cx="256680" cy="228600"/>
              <a:chOff x="2351520" y="2679480"/>
              <a:chExt cx="256680" cy="228600"/>
            </a:xfrm>
          </p:grpSpPr>
          <p:sp>
            <p:nvSpPr>
              <p:cNvPr id="557" name=""/>
              <p:cNvSpPr/>
              <p:nvPr/>
            </p:nvSpPr>
            <p:spPr>
              <a:xfrm>
                <a:off x="2351520" y="2908080"/>
                <a:ext cx="25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608200" y="2679480"/>
                <a:ext cx="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094480" y="2908440"/>
              <a:ext cx="257040" cy="228240"/>
              <a:chOff x="2094480" y="2908440"/>
              <a:chExt cx="257040" cy="228240"/>
            </a:xfrm>
          </p:grpSpPr>
          <p:sp>
            <p:nvSpPr>
              <p:cNvPr id="560" name=""/>
              <p:cNvSpPr/>
              <p:nvPr/>
            </p:nvSpPr>
            <p:spPr>
              <a:xfrm>
                <a:off x="2094480" y="3136680"/>
                <a:ext cx="257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351520" y="2908440"/>
                <a:ext cx="0" cy="22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6627960" y="3904560"/>
              <a:ext cx="61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步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444840" y="2260800"/>
              <a:ext cx="0" cy="1810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13160" y="2260800"/>
              <a:ext cx="0" cy="1846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2125800" y="2001960"/>
              <a:ext cx="125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708560" y="1854000"/>
              <a:ext cx="3214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676520" y="1447920"/>
              <a:ext cx="289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126160" y="3941640"/>
              <a:ext cx="131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476880" y="3960000"/>
              <a:ext cx="167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81120" y="3978360"/>
              <a:ext cx="135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stealth" w="sm"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531480" y="3147120"/>
              <a:ext cx="0" cy="92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48000" y="4015440"/>
              <a:ext cx="7074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926880" y="4033800"/>
              <a:ext cx="7074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534640" y="4015440"/>
              <a:ext cx="7074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L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26520" y="4495680"/>
              <a:ext cx="28936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19520" y="5105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-3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变速控制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8T18:28:15Z</dcterms:created>
  <dc:creator>H. James Toland III</dc:creator>
  <dc:description/>
  <dc:language>en-US</dc:language>
  <cp:lastModifiedBy>新人电脑</cp:lastModifiedBy>
  <dcterms:modified xsi:type="dcterms:W3CDTF">2002-06-11T14:06:56Z</dcterms:modified>
  <cp:revision>62</cp:revision>
  <dc:subject/>
  <dc:title>Introduction</dc:title>
</cp:coreProperties>
</file>